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ED70-12D1-4732-92B6-ECC965D4263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egnaposto numero diapositiva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9959-5C89-41DF-81BD-62E0CCE49E0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55C-8F04-49FD-B3EF-AACFACB1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304-2416-4257-BBF2-406F0E9B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EE4-8EF2-4EE1-9CA2-634E2AAF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F7CA-DDBA-4F17-A568-0F9C79DB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5D2-F1C4-4C92-BCC1-1D297248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CB8-C5DC-4335-B923-43814434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1CE-52DE-4AEE-ABDA-56588995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1CC-1E6C-42E7-91D3-057ADDB2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145-78F0-40B4-90C2-21630C8A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D6AF-66C4-4360-9242-F7951956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3612-BB14-4B87-B6F7-0272DD34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0E1F-20B9-4E7F-80BB-48D7D6F7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86BA-0746-4781-A94F-BCE451778327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278100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2060"/>
                </a:solidFill>
                <a:latin typeface="Arial"/>
              </a:rPr>
              <a:t>Raggruppamenti, avvalimento e subappalto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Il d.lgs. 163/2006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4050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abiliva che (art.37 co.13) i concorrenti riuniti in raggruppamento temporaneo dovessero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eseguire le prestazioni nella percentuale corrispondente alla quota di partecipazion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 raggruppamento st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el 2012, il DL 95/2012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 limitato il vincolo ai soli LAVOR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“</a:t>
            </a: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nel caso di lavor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concorrenti riuniti in raggruppamento temporaneo devono eseguire le prestazioni nella percentuale corrispondente alla quota di partecipazione al raggruppament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Il DL 47/20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ha abrogato la disposizi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 caso di lavori i concorrenti riuniti in raggruppamento temporaneo devono eseguire le prestazioni nella percentuale corrispondente alla quota di partecipazione al raggrupp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’ la cosiddetta «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iberalizzazione delle quo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» confermata dell’art. 48 del Cod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ttore diritto 2"/>
          <p:cNvSpPr/>
          <p:nvPr/>
        </p:nvSpPr>
        <p:spPr>
          <a:xfrm flipV="1">
            <a:off x="2556000" y="2491920"/>
            <a:ext cx="3960720" cy="180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Connettore diritto 5"/>
          <p:cNvSpPr/>
          <p:nvPr/>
        </p:nvSpPr>
        <p:spPr>
          <a:xfrm flipV="1">
            <a:off x="2708280" y="2644920"/>
            <a:ext cx="3960720" cy="1800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Attenzion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la stesura del bando e durante la gara l’attenzione deve essere pos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i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REQUISIT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ulle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QUOTE DI ESECUZIO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le prestazioni che saranno eseguite dai singoli operatori riuniti o consorzi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1- Attenzione ai «requisiti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rt. 48 co. 6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 Nel caso di lavori,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per i raggruppamenti temporanei di tipo vertic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i requisiti «SOA», devono essere posseduti dal mandatario per i lavori della categoria prevalente e per il relativo import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 lavori scorporati ciascun mandante deve possedere i requisiti previsti per l'importo della categoria dei lavori che intende assumere e nella misura indicata per il concorrente singo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1- Attenzione ai «requisiti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rt. 83 co. 8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 Per i soggetti di cui all'articolo 45, co.2, lett.d),e),f) e g), nel bando sono indicate le eventuali misure in cui gli stessi requisiti devono essere posseduti dai singoli concorrenti partecipanti.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La mandataria in ogni caso deve possedere i requisiti ed eseguire le prestazioni in misura maggiorita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olo per raggruppamenti «orizzontali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o non ne sono certo, quindi è necessario disciplinare correttamente i requisiti nel ba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1- Sempre sui «requisiti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urante lo svolgimento della gara, in particolare, nella fase di verifica della documentazione amministrativa (quindi delle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DICHIARAZION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irca il possesso dei requisit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RUP deve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limitarsi a sommar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quote di requisiti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dichiarati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dai componenti il raggruppamento e verificare che corrispondano (o siano superiori) a quanto richiesto nel band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1- Sempre sui «requisiti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la fase di esame della documentazione amministrativa (quindi delle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DICHIARAZION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irca il possesso dei requisit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il RUP non deve accertare l’effettivo possesso dei requisit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«dichiarazioni», se corrette, «sono i requisiti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1- Sempre sui «requisiti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fatti, il Codice preved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rt. 36 co. 5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caso in cui la stazione appaltante abbia fatto ricorso alle procedure negoziate [di cui all’’art. 36 co. 2],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la verifica dei requisiti avviene sull'aggiudicatari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stazione appaltante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può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omunque, estendere le verifiche agli altri partecipan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1- Sempre sui «requisiti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oltre, il Codice preved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rt. 85 co. 5 -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stazione appaltante </a:t>
            </a:r>
            <a:r>
              <a:rPr b="1" lang="it-IT" sz="3600" spc="-1" strike="noStrike" u="sng">
                <a:solidFill>
                  <a:srgbClr val="000000"/>
                </a:solidFill>
                <a:uFillTx/>
                <a:latin typeface="Arial"/>
              </a:rPr>
              <a:t>può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hiedere agli offerenti, in qualsiasi momento nel corso della procedura, di presentare tutti i document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“complementari”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 parte di essi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qualora questo sia necessario per assicurare il corretto svolgimento della procedur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…cioè, MAI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2- Quote di esecuzion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l Codice preved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rt. 48 co. 4 –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caso di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lavori, forniture o serviz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l'offerta devono ess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ecificate le categorie di lavori o le parti del servizio o della forni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he saranno eseguite dai singoli operatori economici riuniti o consorziati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NOTA BENE: </a:t>
            </a: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Gli operatori economici, anche per dimostrare il possesso di requisiti economico/professionali dei quali sono carenti, possono ricorr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al raggruppamento temporaneo di concorrenti (art. 48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all’avvalimento dei requisiti di altri (art. 89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al sub-appalto «qualificante» o «necessario» (art. 10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2- Quote di esecuzion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Conseguenza 1 =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Gli operatori economic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vono sempre dichiarare le categorie di lavori o le parti del servizio o fornitura che saranno eseguite dai singoli operatori economici riuniti o consorziati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iascuno deve possedere requisiti adeguati alla «quota di esecuzione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2- Quote di esecuzion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Conseguenza 2 =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per forniture e servizi nel progetto e nel bando dobbiamo distinguere (nei lavori avviene di già!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prestazione principal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prestazioni accessorie e scorporabili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che attraverso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ocabolario comune per gli appal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 CPV (Common Procurement Vocabulary): nomenclatura di riferimento per gli appalti pubblici Regolamento (CE) n. 213/200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ESEMPIO: </a:t>
            </a:r>
            <a:r>
              <a:rPr b="1" lang="it-IT" sz="4400" spc="-1" strike="noStrike" u="sng">
                <a:solidFill>
                  <a:srgbClr val="ff0000"/>
                </a:solidFill>
                <a:uFillTx/>
                <a:latin typeface="Arial"/>
              </a:rPr>
              <a:t>Mensa scolastica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1mln</a:t>
            </a: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prestazione principale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ucinare i pasti presso un centro di cot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PV 55321000-6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prestazioni accessorie e scorporabili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A consegnare i pa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PV 55320000-9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B distribuire i pasti in men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PV 55512000-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5400" spc="-1" strike="noStrike">
                <a:solidFill>
                  <a:srgbClr val="403152"/>
                </a:solidFill>
                <a:latin typeface="Arial"/>
              </a:rPr>
              <a:t>ES. M</a:t>
            </a:r>
            <a:r>
              <a:rPr b="1" lang="it-IT" sz="6000" spc="-1" strike="noStrike">
                <a:solidFill>
                  <a:srgbClr val="403152"/>
                </a:solidFill>
                <a:latin typeface="Arial"/>
              </a:rPr>
              <a:t>ensa = </a:t>
            </a:r>
            <a:r>
              <a:rPr b="1" lang="it-IT" sz="5400" spc="-1" strike="noStrike">
                <a:solidFill>
                  <a:srgbClr val="403152"/>
                </a:solidFill>
                <a:latin typeface="Arial"/>
              </a:rPr>
              <a:t>1mln</a:t>
            </a:r>
            <a:r>
              <a:rPr b="0" lang="it-IT" sz="9600" spc="-1" strike="noStrike">
                <a:solidFill>
                  <a:srgbClr val="403152"/>
                </a:solidFill>
                <a:latin typeface="Arial"/>
              </a:rPr>
              <a:t>  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9640" y="1773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prestazione principale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ucinare i pasti presso un centro di cottura = 500m euro (50%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prestazioni accessorie e scorporabili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A consegnare i pasti = 150m euro (1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B distribuire i pasti in mensa = 350m euro (3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NOTA BENE: </a:t>
            </a: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E’ possibile il subappalto della prestazione accessoria «</a:t>
            </a: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distribuire i pasti in mensa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» del valore di 350m euro (35%) </a:t>
            </a:r>
            <a:r>
              <a:rPr b="1" lang="it-IT" sz="4000" spc="-1" strike="noStrike">
                <a:solidFill>
                  <a:srgbClr val="002060"/>
                </a:solidFill>
                <a:latin typeface="Arial"/>
              </a:rPr>
              <a:t>?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Come si calcola il limite al subappalto dell’art. 105 </a:t>
            </a:r>
            <a:r>
              <a:rPr b="1" lang="it-IT" sz="40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5400" spc="-1" strike="noStrike">
                <a:solidFill>
                  <a:srgbClr val="403152"/>
                </a:solidFill>
                <a:latin typeface="Arial"/>
              </a:rPr>
              <a:t>ES. M</a:t>
            </a:r>
            <a:r>
              <a:rPr b="1" lang="it-IT" sz="6000" spc="-1" strike="noStrike">
                <a:solidFill>
                  <a:srgbClr val="403152"/>
                </a:solidFill>
                <a:latin typeface="Arial"/>
              </a:rPr>
              <a:t>ensa = </a:t>
            </a:r>
            <a:r>
              <a:rPr b="1" lang="it-IT" sz="5400" spc="-1" strike="noStrike">
                <a:solidFill>
                  <a:srgbClr val="403152"/>
                </a:solidFill>
                <a:latin typeface="Arial"/>
              </a:rPr>
              <a:t>1mln</a:t>
            </a:r>
            <a:r>
              <a:rPr b="0" lang="it-IT" sz="9600" spc="-1" strike="noStrike">
                <a:solidFill>
                  <a:srgbClr val="403152"/>
                </a:solidFill>
                <a:latin typeface="Arial"/>
              </a:rPr>
              <a:t>  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1773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quisiti di “capacità economico/finanziaria” richiesti nel band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è richiesto un solo requisito =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“fatturato medio annuo, nei tre esercizi precedenti 2018-2017-2016, non inferiore a </a:t>
            </a:r>
            <a:r>
              <a:rPr b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2 milion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”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5400" spc="-1" strike="noStrike">
                <a:solidFill>
                  <a:srgbClr val="403152"/>
                </a:solidFill>
                <a:latin typeface="Arial"/>
              </a:rPr>
              <a:t>ES. M</a:t>
            </a:r>
            <a:r>
              <a:rPr b="1" lang="it-IT" sz="6000" spc="-1" strike="noStrike">
                <a:solidFill>
                  <a:srgbClr val="403152"/>
                </a:solidFill>
                <a:latin typeface="Arial"/>
              </a:rPr>
              <a:t>ensa = </a:t>
            </a:r>
            <a:r>
              <a:rPr b="1" lang="it-IT" sz="5400" spc="-1" strike="noStrike">
                <a:solidFill>
                  <a:srgbClr val="403152"/>
                </a:solidFill>
                <a:latin typeface="Arial"/>
              </a:rPr>
              <a:t>1mln</a:t>
            </a:r>
            <a:r>
              <a:rPr b="0" lang="it-IT" sz="9600" spc="-1" strike="noStrike">
                <a:solidFill>
                  <a:srgbClr val="403152"/>
                </a:solidFill>
                <a:latin typeface="Arial"/>
              </a:rPr>
              <a:t>  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9640" y="1773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 consegue ch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caso di raggruppamento verticale, ciascun operatore dovrà avere un fattura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on inferiore al doppio del valore della prestazione che dovrà esegui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Arial"/>
              </a:rPr>
              <a:t>Raggruppamento + subappal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1. cucinare i pasti, vale 500m euro = req.1m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A – consegnare, vale 150m euro = req.30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2.B – distribuire, vale 350m euro = req.70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1. “CHE BUONO Srl” capogruppo fatt=1ml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A - Subappalto “qualificante”. Impresa con fatt=300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2.B – Una micro impresa in raggr. fatt=6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+ subappalto di 50m a impresa con fatt=100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2060"/>
                </a:solidFill>
                <a:latin typeface="Arial"/>
              </a:rPr>
              <a:t>Raggruppamento MISTO + subappal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1. cucinare i pasti, vale 500m euro = req.1m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A – consegnare, vale 150m euro = req.30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2.B – distribuire, vale 350m euro = req.70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1. RTI = “Mangiare Srl” capogruppo fatt=700+ «Digerire Srl» fatt=3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A - Subappalto “qualificante”. Impresa con fatt=300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2.B – Una micro impresa in raggr. fatt=6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+ subappalto di 50m a impresa con fatt=100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5000" y="4581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AVVAL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5000" y="4581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RAGGRUPPAME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AVVALIMENTO (ART. 89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L'operatore economico, singolo o in raggruppamento, </a:t>
            </a: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può soddisfare – SEMPRE - </a:t>
            </a: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la richiesta relativa al possesso dei </a:t>
            </a: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requisiti di carattere economico, finanziario, tecnico e professionale</a:t>
            </a: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avvalendosi delle capacità di altri soggetti, anche partecipanti al raggruppamento, a prescindere dalla natura giuridica dei suoi legami con questi ulti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AVVALIMENTO (ART. 89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L'avvalimento non è </a:t>
            </a: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MAI</a:t>
            </a: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 ammes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per i requisiti di «ordine generale» elencati all’art. 80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060"/>
                </a:solidFill>
                <a:latin typeface="Arial"/>
              </a:rPr>
              <a:t>per soddisfare i requisiti di «idoneità professionale», come l'iscrizione all'Albo nazionale dei gestori ambientali di cui all’art. 212 del d.lgs.152/200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AVVALIMENTO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3. L'avvalimento non è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MAI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 ammesso per le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categorie SUPERSPECIALISTICHE di lavori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(del DM 248/2016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ART. 89 CO. 11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= 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Non è ammesso l'avvalimento qualora nell'oggetto dell'appalto rientrino opere per le quali sono necessari lavori o componenti di notevole contenuto tecnologico o di rilevante complessità tecnica, quali strutture, impianti e opere specia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E’ considerato rilevante, ai fini della sussistenza dei presupposti di cui al primo periodo, che il valore dell’opera superi il 10% dell'importo totale dei lavo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ART. 105 co. 5 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= Per le categorie superspecialistiche l'eventuale subappalto non può superare il 30% dell'importo delle oper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AVVALIMENTO (ART. 89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L'operatore che vuole avvalersi delle capacità di altri alleg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una dichiarazione dell’ausiliaria che attesta il possesso dei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requisiti generali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di cui all’art. 80, dei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requisiti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tecnici e delle risorse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oggetto di avvalimento (oppure, l'eventuale attestazione SOA dell’ausiliaria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una dichiarazione sottoscritta dall'impresa ausiliaria con cui quest'ultima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si obbliga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verso il concorrente, e verso la stazione appaltante, a mettere a disposizione per tutta la durata dell'appalto le risorse necessarie di cui è carente il concorrent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AVVALIMENTO (ART. 89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L'operatore, infine, alleg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3- in originale, o copia autentica, il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contratto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 in virtù del quale l'impresa ausiliaria si obbliga nei confronti del concorrente a fornire i requisiti e a mettere a disposizione le risorse necessarie per tutta la durata dell'appal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«A tal fine,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il contratto di avvalimento contiene, </a:t>
            </a:r>
            <a:r>
              <a:rPr b="1" lang="it-IT" sz="2400" spc="-1" strike="noStrike" u="sng">
                <a:solidFill>
                  <a:srgbClr val="002060"/>
                </a:solidFill>
                <a:uFillTx/>
                <a:latin typeface="Arial"/>
              </a:rPr>
              <a:t>a pena di nullità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, la specificazione dei requisiti forniti e delle risorse messe a disposizione dall'impresa ausiliaria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AVVALIMENTO (ART. 89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Avvalimento «di garanzia»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l’ausiliaria mette a disposizione la propria solidità economico/finanziaria, rassicurando la stazione appaltante sulla sua capacità di far fronte agli impegni economici conseguenti al contratto d’appalto, anche in caso di inadempiment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Avvalimento «tecnico» o «operativo»: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l’ausiliaria si impegna a mettere a disposizione dell’ausiliata le proprie risorse tecnico organizzative indispensabili per l’esecuzione del contratto d’appal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CDS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, sentenze 1216/2018 e 2102/201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Avvalimento «di garanzia»</a:t>
            </a:r>
            <a:r>
              <a:rPr b="0" lang="it-IT" sz="20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non sussiste l’esigenza di una indicazione puntuale e specifica indicazione dei requisiti di carattere economico finanziario oggetto di avvalimento (es. fatturato, certificazione di qualità, ecc.), non trattandosi di beni in senso tecnico giuridic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Avvalimento «tecnico» o «operativo»: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sussiste sempre l’esigenza di mettere a disposizione, in modo specifico, risorse determinat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per cui è imposto alle parti indicare, con precisione, i mezzi aziendali messi a disposizione dell’ausiliata per eseguire l’appal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vvalimento «tecnico» (art. 89 co. 9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La stazione appaltante esegue, in corso d'esecuzione, </a:t>
            </a: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verifiche sostanziali</a:t>
            </a: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 circa l'effettivo possesso dei requisiti e delle risorse oggetto dell'avvalimento da parte dell'impresa ausiliaria, </a:t>
            </a: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nonché l'effettivo impiego delle risorse medesime nell'esecuzione dell'appalto</a:t>
            </a: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vvalimento «tecnico» (art. 89 co. 9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A tal fine il responsabile unico del procedimento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accerta in corso d'opera che le prestazioni oggetto di contratto siano svolte direttamente dalle risorse umane e strumentali dell'impresa ausiliaria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che il titolare del contratto utilizza in adempimento degli obblighi derivanti dal contratto di avvalimento, pena la risoluzione del contratto di appal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La stazione appaltante trasmette all'Autorità tutte le dichiarazioni di avvalimento, indicando altresì l'aggiudicatario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NOTA BEN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Anche nel caso di AVVALIMENTO, nella fase di esame della documentazione amministrativa (quindi, delle </a:t>
            </a:r>
            <a:r>
              <a:rPr b="1" lang="it-IT" sz="2800" spc="-1" strike="noStrike" u="sng">
                <a:solidFill>
                  <a:srgbClr val="002060"/>
                </a:solidFill>
                <a:uFillTx/>
                <a:latin typeface="Arial"/>
              </a:rPr>
              <a:t>DICHIARAZIONI</a:t>
            </a: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 circa il possesso dei requisiti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il RUP deve limitarsi a “sommare” le quote di requisiti dichiarati da AUSILIATA e AUSILIARIA e verificare che corrispondano (o siano superiori) a quanto richiesto nel bando</a:t>
            </a:r>
            <a:r>
              <a:rPr b="0" lang="it-IT" sz="2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7030a0"/>
                </a:solidFill>
                <a:latin typeface="Arial"/>
              </a:rPr>
              <a:t>Raggruppamenti temporanei</a:t>
            </a:r>
            <a:r>
              <a:rPr b="1" lang="it-IT" sz="44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it-IT" sz="4800" spc="-1" strike="noStrike">
                <a:solidFill>
                  <a:srgbClr val="4f6228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 caso di lavori, per raggruppamento temporaneo di tipo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vertical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 intende una riunione di operatori nell'ambito della quale uno di essi realizza i lavori della categoria prevalent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e gli altri eseguono i lavori delle altre categor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raggruppamento di tipo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orizzonta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i intende una riunione di operatori economici finalizzata a realizzare i lavori della stessa categoria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5400" spc="-1" strike="noStrike">
                <a:solidFill>
                  <a:srgbClr val="403152"/>
                </a:solidFill>
                <a:latin typeface="Arial"/>
              </a:rPr>
              <a:t>ES. M</a:t>
            </a:r>
            <a:r>
              <a:rPr b="1" lang="it-IT" sz="6000" spc="-1" strike="noStrike">
                <a:solidFill>
                  <a:srgbClr val="403152"/>
                </a:solidFill>
                <a:latin typeface="Arial"/>
              </a:rPr>
              <a:t>ensa = </a:t>
            </a:r>
            <a:r>
              <a:rPr b="1" lang="it-IT" sz="5400" spc="-1" strike="noStrike">
                <a:solidFill>
                  <a:srgbClr val="403152"/>
                </a:solidFill>
                <a:latin typeface="Arial"/>
              </a:rPr>
              <a:t>1mln</a:t>
            </a:r>
            <a:r>
              <a:rPr b="0" lang="it-IT" sz="9600" spc="-1" strike="noStrike">
                <a:solidFill>
                  <a:srgbClr val="403152"/>
                </a:solidFill>
                <a:latin typeface="Arial"/>
              </a:rPr>
              <a:t>  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177336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quisiti di “capacità economico/finanziaria” richiesti nel band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è richiesto un solo requisito =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“fatturato medio annuo, nei tre esercizi precedenti 2018-2017-2016, non inferiore a </a:t>
            </a:r>
            <a:r>
              <a:rPr b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2 milion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”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2060"/>
                </a:solidFill>
                <a:latin typeface="Arial"/>
              </a:rPr>
              <a:t>Avvalimento + subappalt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1. cucinare i pasti presso un centro di cottura = 500m euro (50%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A consegnare i pasti = 150m euro (1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2.B distribuire i pasti in mensa = 350m euro (3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1. Impresa “CHE BUONO Srl” con fatt=1ml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A - Subappalto “qualificante”. Impresa con fatt=300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2.B – «CHE BUONO Srl» con avvalimento “di garanzia” da altra ditta del fatt=70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4221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UBAPPAL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Subappalto (art.105), principi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soggetti affidatari dei contratt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seguono in propri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le opere o i lavori, i servizi, le forni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contratto non può essere ceduto a pena di nullit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fatte salve fusioni, scissioni, acquisizioni, ecc. – art. 106, lett. d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) + 2) = principio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«immodificabilità del contraente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Subappalto (art.105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subappalto è il contratto con il quale l'appaltatore affida a terzi l'esecuzione di parte delle prestazioni o lavorazioni che richiedono manodop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on può superare il </a:t>
            </a: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30%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 dell'importo complessivo del contratto di lavori, servizi o forni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Tar Lazio, Roma Sez. I-bis, n. 1956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 il contratto di subappalto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'appaltatore trasferisce a un altro operatore economico l'esecuzione di una parte delle prestazio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he gli sono state affidate, configurando un vero e proprio «appalto» che si caratterizza, rispetto al contratto-tip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lo per essere un contratto «derivato da altro contratto stipulato a monte», che ne costituisce il presuppo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Posso vietare il subappalto? …N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condo l’ANAC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la previsione di limitazioni o divieti al subappalto deve comunque essere motivata da specifiche esigenze di natura tecnico/organizzativa e rispettare i principi di proporzionalità e di massima partecipazione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Pareri n. 1024/2017 e n. 609/2018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Quindi, più NO che si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Attenzione «servizi sociali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n esiste più l’art. 27 del d.lgs. 163/2006 per i «contratti esclusi»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amministrazioni aggiudicatrici stabiliscono se è ammesso o meno il subappalto, e, in caso affermativo, le relative condizioni di ammissibi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nettore diritto 2"/>
          <p:cNvSpPr/>
          <p:nvPr/>
        </p:nvSpPr>
        <p:spPr>
          <a:xfrm flipH="1">
            <a:off x="2555640" y="2997360"/>
            <a:ext cx="3168360" cy="2232000"/>
          </a:xfrm>
          <a:prstGeom prst="line">
            <a:avLst/>
          </a:prstGeom>
          <a:ln w="76320">
            <a:solidFill>
              <a:srgbClr val="770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Connettore diritto 5"/>
          <p:cNvSpPr/>
          <p:nvPr/>
        </p:nvSpPr>
        <p:spPr>
          <a:xfrm flipH="1">
            <a:off x="3139920" y="3149640"/>
            <a:ext cx="3168720" cy="2232000"/>
          </a:xfrm>
          <a:prstGeom prst="line">
            <a:avLst/>
          </a:prstGeom>
          <a:ln w="76320">
            <a:solidFill>
              <a:srgbClr val="770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DEFINIZIONE art.105 co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986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ubappalto: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qualsiasi contratto per attività che richiedono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manodoper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con incidenza &gt;50%), c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forniture con posa in opera e noli a caldo, se singolarmente di impor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uperiore al 2% del contratto d’appal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 di importo superiore a 100m eur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 u="sng">
                <a:solidFill>
                  <a:srgbClr val="984807"/>
                </a:solidFill>
                <a:uFillTx/>
                <a:latin typeface="Arial"/>
              </a:rPr>
              <a:t>NON sono MAI subappalti</a:t>
            </a:r>
            <a:r>
              <a:rPr b="0" lang="it-IT" sz="4800" spc="-1" strike="noStrike">
                <a:solidFill>
                  <a:srgbClr val="984807"/>
                </a:solidFill>
                <a:latin typeface="Arial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)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'affidamento d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ttività specifiche a lavoratori autonom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per le quali occorre effettuare comunicazione alla stazione appaltant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b) 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subfornitura a catalogo di prodotti informatic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) l'affidamento di servizi fino a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20m euro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nui a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mprenditori agrico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ei comuni classificati totalmente montan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nonché nei comuni delle isole minor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4f6228"/>
                </a:solidFill>
                <a:latin typeface="Arial"/>
              </a:rPr>
              <a:t>Raggruppamenti temporanei </a:t>
            </a:r>
            <a:r>
              <a:rPr b="1" lang="it-IT" sz="4800" spc="-1" strike="noStrike">
                <a:solidFill>
                  <a:srgbClr val="4f6228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Nel caso d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niture o servizi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per raggruppamento di tipo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vertica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si intende un raggruppamento in cui il mandatario esegue le prestazioni di servizi/forniture indicati come «principali» anche in termini economici, mentre i mandanti eseguono quelle indicate come «secondarie»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er raggruppamento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orizzonta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quello in cui gli operatori economici eseguono il medesimo tipo di prestazion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e stazioni appaltanti indicano nel bando di gara la prestazione principale e quelle secondari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 u="sng">
                <a:solidFill>
                  <a:srgbClr val="984807"/>
                </a:solidFill>
                <a:uFillTx/>
                <a:latin typeface="Arial"/>
              </a:rPr>
              <a:t>NON sono subappalti</a:t>
            </a:r>
            <a:r>
              <a:rPr b="0" lang="it-IT" sz="4800" spc="-1" strike="noStrike">
                <a:solidFill>
                  <a:srgbClr val="984807"/>
                </a:solidFill>
                <a:latin typeface="Arial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04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-bis)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prestazioni rese in favore dei soggetti affidatari in forza di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contratti continuativi di cooperazione, servizio e/o fornitura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sottoscritti in epoca anterior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alla indizione della procedura finalizzata alla aggiudicazione dell’appalto.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relativi contratti sono depositati prima o contestualmente alla sottoscrizione del contratto di appal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0000"/>
                </a:solidFill>
                <a:latin typeface="Arial"/>
              </a:rPr>
              <a:t>Subcontratti (art.105 co.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Arial"/>
              </a:rPr>
              <a:t>Non sono subappal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 forniture con posa in opera e i noli a caldo, se inferiori sia al 2% del contratto sia a 100m eur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ppure se l'incidenza della manodopera è inferiore al 50% (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Esempi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fornitura senza posa di qualunque import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Subcontratti (art.105 co.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'affidatario </a:t>
            </a:r>
            <a:r>
              <a:rPr b="1" lang="it-IT" sz="3600" spc="-1" strike="noStrike" u="sng">
                <a:solidFill>
                  <a:srgbClr val="ff0000"/>
                </a:solidFill>
                <a:uFillTx/>
                <a:latin typeface="Arial"/>
              </a:rPr>
              <a:t>comunic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rima dell'inizio della prestazione, per tutti i sub-contrat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nome del sub-contraente, l'importo del sub-contratto, l'oggetto del lavoro, servizio o fornitura affida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no comunicate alla stazione appaltante le modifiche di tali informazion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SUBappalto (co. 4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soggetti affidatari dei contratti possono affidare in subappalto le opere o i lavori, i servizi o le forniture compresi nel contratto, previa </a:t>
            </a:r>
            <a:r>
              <a:rPr b="1" lang="it-IT" sz="4000" spc="-1" strike="noStrike" u="sng">
                <a:solidFill>
                  <a:srgbClr val="ff0000"/>
                </a:solidFill>
                <a:uFillTx/>
                <a:latin typeface="Arial"/>
              </a:rPr>
              <a:t>autorizz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la stazione appaltante purch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l’affidatario del subappalto </a:t>
            </a: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non abbia partecipato alla procedura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per l’affidamento dell’appal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rrettivo (comma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) il subappaltatore sia </a:t>
            </a: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qualific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la relativa categori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) all’atto dell’offerta siano stati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indicati i lavori o le parti di opere ovvero i servizi e le forniture o parti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 servizi e forniture che si intende subappalt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) il concorrente dimostri l’assenza in capo ai subappaltatori dei motivi di esclusione di cui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ll’articolo 80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cc"/>
                </a:solidFill>
                <a:latin typeface="Arial"/>
              </a:rPr>
              <a:t>Autorizzazione art.105 co.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stazione appaltante </a:t>
            </a:r>
            <a:r>
              <a:rPr b="1" lang="it-IT" sz="4800" spc="-1" strike="noStrike">
                <a:solidFill>
                  <a:srgbClr val="0033cc"/>
                </a:solidFill>
                <a:latin typeface="Arial"/>
              </a:rPr>
              <a:t>autorizz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ntro </a:t>
            </a: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30 gg</a:t>
            </a:r>
            <a:r>
              <a:rPr b="0" lang="it-IT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alla richiest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ale termine può essere prorogato una sola volta, ove ricorrano giustificati motiv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rascorso tale termine senza che si sia provveduto, l'autorizzazione si intende conc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600" spc="-1" strike="noStrike">
                <a:solidFill>
                  <a:srgbClr val="0033cc"/>
                </a:solidFill>
                <a:latin typeface="Arial"/>
              </a:rPr>
              <a:t>«cottimi»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o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subappal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he richiedono l’impiego di manodopera con incidenza superiore al 50%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 di importo inferiore al 2% dell'importo delle prestazion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 di importo inferiore a 100.000 eu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autorizzano in </a:t>
            </a:r>
            <a:r>
              <a:rPr b="1" lang="it-IT" sz="3200" spc="-1" strike="noStrike">
                <a:solidFill>
                  <a:srgbClr val="0033cc"/>
                </a:solidFill>
                <a:latin typeface="Arial"/>
              </a:rPr>
              <a:t>15 gg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600" spc="-1" strike="noStrike">
                <a:solidFill>
                  <a:srgbClr val="0033cc"/>
                </a:solidFill>
                <a:latin typeface="Arial"/>
              </a:rPr>
              <a:t>In sintesi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623880" indent="-623880">
              <a:spcBef>
                <a:spcPts val="901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cc"/>
                </a:solidFill>
                <a:latin typeface="Arial"/>
              </a:rPr>
              <a:t>Subappalto «in senso stretto» </a:t>
            </a:r>
            <a:r>
              <a:rPr b="0" lang="it-IT" sz="3600" spc="-1" strike="noStrike">
                <a:solidFill>
                  <a:srgbClr val="0033cc"/>
                </a:solidFill>
                <a:latin typeface="Arial"/>
              </a:rPr>
              <a:t>(&gt;2% e &gt;100m)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: da autorizzare in 30 giorn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spcBef>
                <a:spcPts val="901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cc"/>
                </a:solidFill>
                <a:latin typeface="Arial"/>
              </a:rPr>
              <a:t>Subappalto «cottimo» </a:t>
            </a:r>
            <a:r>
              <a:rPr b="0" lang="it-IT" sz="3600" spc="-1" strike="noStrike">
                <a:solidFill>
                  <a:srgbClr val="0033cc"/>
                </a:solidFill>
                <a:latin typeface="Arial"/>
              </a:rPr>
              <a:t>(&lt;2% o &lt;100m)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: da autorizzare in 15 giorn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spcBef>
                <a:spcPts val="901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cc"/>
                </a:solidFill>
                <a:latin typeface="Arial"/>
              </a:rPr>
              <a:t>«Subcontratti» </a:t>
            </a:r>
            <a:r>
              <a:rPr b="0" lang="it-IT" sz="3600" spc="-1" strike="noStrike">
                <a:solidFill>
                  <a:srgbClr val="0033cc"/>
                </a:solidFill>
                <a:latin typeface="Arial"/>
              </a:rPr>
              <a:t>(&lt;2% e &lt;100m)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: l’appaltatore li comunica prima dell’avvio della prestazio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3880" indent="-6238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utorizzazione (art.105 co.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'affidatario 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deposita il contratto di subappalto almeno venti giorni prim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a data di effettivo inizio dell'esecuzione delle relative prestazio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 momento del deposito, l'affidatario trasmet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ertific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testante il possesso da parte del subappaltatore de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quisiti di qualific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critti in relazione alla prestazione subappalta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ichiar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 subappaltatore attestant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'assenz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 capo ai subappaltatori de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otivi di esclus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cui all'articolo 8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utorizzazione (art.105 co.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i subappalt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rredato della documentazione tecnica, amministrativa e grafica direttamente derivata dagli atti del contratto affidat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dica puntualmente l'ambito operativo del subappalto sia in termini prestazionali che economic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4f6228"/>
                </a:solidFill>
                <a:latin typeface="Arial"/>
              </a:rPr>
              <a:t>Raggruppamenti temporanei </a:t>
            </a:r>
            <a:r>
              <a:rPr b="1" lang="it-IT" sz="4800" spc="-1" strike="noStrike">
                <a:solidFill>
                  <a:srgbClr val="4f6228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Ne consegue che, nel caso d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niture e servizi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stazioni appaltanti indicano </a:t>
            </a:r>
            <a:r>
              <a:rPr b="0" lang="it-IT" sz="2800" spc="-1" strike="noStrike">
                <a:solidFill>
                  <a:srgbClr val="4f6228"/>
                </a:solidFill>
                <a:latin typeface="Arial"/>
              </a:rPr>
              <a:t>(…dovrebbero indica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nel bando di g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restazione principale e quelle secondarie che compongono la fornitura o il servizio in ga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utorizzazione (art.105 co.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'affidatario, che si avvale del subappalto o del cottimo, deve allegare alla copia autentica del contrat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dichiarazione circa la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ussistenza o meno di eventuali forme di controllo o di collegamento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 norma dell'articolo 2359 del codice civile con il titolare del subappalto o del cottim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naloga dichiarazione deve essere effettuata da ciascuno dei soggetti partecipanti nel caso di raggruppamento temporaneo, società o consorz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33cc"/>
                </a:solidFill>
                <a:latin typeface="Arial"/>
              </a:rPr>
              <a:t>La terna di subappaltator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È obbligatoria l’indicazione della </a:t>
            </a:r>
            <a:r>
              <a:rPr b="1" lang="it-IT" sz="3200" spc="-1" strike="noStrike">
                <a:solidFill>
                  <a:srgbClr val="0033cc"/>
                </a:solidFill>
                <a:latin typeface="Arial"/>
              </a:rPr>
              <a:t>terna di subappaltatori in sede di offer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alora gli appalti di lavori, servizi e forn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ano di importo pari o superiore alle </a:t>
            </a:r>
            <a:r>
              <a:rPr b="1" lang="it-IT" sz="3200" spc="-1" strike="noStrike">
                <a:solidFill>
                  <a:srgbClr val="0033cc"/>
                </a:solidFill>
                <a:latin typeface="Arial"/>
              </a:rPr>
              <a:t>soglie 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ppure riguardino le attività maggiormente esposte a rischio di </a:t>
            </a:r>
            <a:r>
              <a:rPr b="1" lang="it-IT" sz="3200" spc="-1" strike="noStrike">
                <a:solidFill>
                  <a:srgbClr val="0033cc"/>
                </a:solidFill>
                <a:latin typeface="Arial"/>
              </a:rPr>
              <a:t>infiltrazione mafios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come da co.53 art.1 della legge 190/201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33cc"/>
                </a:solidFill>
                <a:latin typeface="Arial"/>
              </a:rPr>
              <a:t>Art.1 co.53 legge 190/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definite come maggiormente esposte a rischio di infiltrazione mafiosa le seguenti attività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)  trasporto di materiali a discarica per conto di terzi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)  trasporto, anche transfrontaliero, e smaltimento di rifiuti per conto di terzi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)  estrazione, fornitura e trasporto di terra e materiali inerti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)  confezionamento, fornitura e trasporto di calcestruzzo e di bitum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)  noli a freddo di macchinari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)  fornitura di ferro lavora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)  noli a cald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)  autotrasporti per conto di terzi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)  guardiania dei cantie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cc"/>
                </a:solidFill>
                <a:latin typeface="Arial"/>
              </a:rPr>
              <a:t>La terna di subappalta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caso di appalti aventi ad oggetto più tipologie di prestazioni, la terna di subappaltatori va indicata con riferimento a ciascuna tipologia di prestazione omogenea prevista nel bando di ga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33cc"/>
                </a:solidFill>
                <a:latin typeface="Arial"/>
              </a:rPr>
              <a:t>La terna di subappalta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 bando la stazione appaltante prevede, per gli appalti sotto le soglia U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modalità e le tempistiche per la verifica delle condizioni di esclusione di cui all’art.80 prima della stipula del contratto stess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per l’appaltatore e i subappaltator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indicazione dei mezzi di prova richiesti, per la dimostrazione delle circostanze di esclusione per gravi illeciti professionali come previsti dal co.13 dell’articolo 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agamento diretto (art.105 co.1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79720" indent="-279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stazione appaltante corrisponde direttamente al subappaltatore, al cottimista, al prestatore di servizi ed al fornitore di beni o lavori, l'importo dovuto nei seguenti c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)  quando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subappaltatore o il cottimista è una microimpresa o piccola impres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b)  in caso inadempimento da parte dell'appaltator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)  su richiesta del subappaltatore e se la natura del contratto lo cons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 algn="just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5280" y="1483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Fine del capitol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Grazie per l’attenzione e buon lavor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Arial"/>
              </a:rPr>
              <a:t>Raggruppamenti MISTI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no ammessi dalla norma quando prevede che (all’interno di un VERTICALE), i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lavor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riconducibili alla categoria prevalente, ovvero alle categorie scorporate, possano essere assunti anche da imprenditori riuniti in raggruppamento orizzont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realtà, i raggruppamenti misti sono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mmessi anche per forniture e serviz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Parere ANAC 284/20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Raggruppamenti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' consentita la presentazione di offerte da parte di raggruppamenti e consorzi ordinari anche s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on ancora costitui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tal cas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'offerta deve essere sottoscritta da tut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operatori economici che costituiranno i raggruppamenti o i consorzi ordinar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contener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'impeg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he, in caso di aggiudicazione della gara, gli stessi operatori conferiranno mandato collettivo speciale con rappresentanza ad uno di essi, da indicare in sede di offerta e qualificato come mandatario, il quale stipulerà il contratto in nome e per conto proprio e dei manda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Distingue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I requisiti di qualific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attengono esclusivamente alle caratteristiche soggettive del concorrente e riguardano la capacità dell’aspirante a realizzare quanto affidatogl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La quota di partecip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ha riflessi in riferimento alla responsabilità del componente nel raggruppament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La quota di esecu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rappresenta meramente la parte di prestazione che verrà realizzat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5:44:14Z</dcterms:created>
  <dc:creator>omar gozzoli</dc:creator>
  <dc:description/>
  <dc:language>en-US</dc:language>
  <cp:lastModifiedBy>Segretario Comunale - Comune di Roncadelle</cp:lastModifiedBy>
  <cp:lastPrinted>2014-01-28T11:27:24Z</cp:lastPrinted>
  <dcterms:modified xsi:type="dcterms:W3CDTF">2019-03-20T11:05:39Z</dcterms:modified>
  <cp:revision>1532</cp:revision>
  <dc:subject/>
  <dc:title>Ordinamento finanziario e contabile</dc:title>
</cp:coreProperties>
</file>