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190-9D17-4310-91CD-0CA0D7C9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6E2-9DB0-44ED-87F9-06AC85CC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ABA-0E4E-4660-80B3-55901D9A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3AE-FD7E-4816-89D1-94E25475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B6E-E250-450B-9089-C19CB377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EB8-9ADE-461A-B406-28AF96A8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85A-1727-4242-BEED-91516581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C38-1D4E-4F5C-B7F1-4D20F63D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FF9-4DFC-4A09-8FD2-227281CC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FE0-6BD6-475B-9E9E-AA0B8158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C98-3818-447C-8772-7AE93CD9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96D-4A27-4E9E-8D76-4B1D1D36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C9FD-C3DC-490D-A5EA-49EB3EE37A6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E OFFERTE ANOM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Prezzo più bass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it-IT" sz="4800" spc="-1" strike="noStrike">
                <a:solidFill>
                  <a:srgbClr val="ff0000"/>
                </a:solidFill>
                <a:latin typeface="Arial"/>
              </a:rPr>
              <a:t> Esclusione automatica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er lavori, servizi e forniture inferiori alle soglie U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on almeno 10 offerte ancora in ga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 Esclusione automatica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t. 97 co. 8: “la stazione appaltante 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può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evedere nel bando l’esclusione automatica dalla gara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l’automatismo non è previsto nei documenti di ga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ON SI PUO’ APPLI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Consiglio di Stato, Sezione V, 30/10/2017 n. 49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Valutazione della congruità  (art. 97 co.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2060"/>
                </a:solidFill>
                <a:latin typeface="Arial"/>
              </a:rPr>
              <a:t>La stazione appaltante chiede spiegazioni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2060"/>
                </a:solidFill>
                <a:latin typeface="Arial"/>
              </a:rPr>
              <a:t>assegnando al concorrente un termine non inferiore a </a:t>
            </a:r>
            <a:r>
              <a:rPr b="1" lang="it-IT" sz="3600" spc="-1" strike="noStrike" u="sng">
                <a:solidFill>
                  <a:srgbClr val="002060"/>
                </a:solidFill>
                <a:uFillTx/>
                <a:latin typeface="Arial"/>
              </a:rPr>
              <a:t>quindici giorni</a:t>
            </a:r>
            <a:r>
              <a:rPr b="0" lang="it-IT" sz="3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2060"/>
                </a:solidFill>
                <a:latin typeface="Arial"/>
              </a:rPr>
              <a:t>Tutto in forma scritt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Verifica in contraddittorio con il concorr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Non sarebbe più prevista dall’art. 97, ma è consigliabile prima di escludere il concorren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NO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, non è necessario = TAR Valle d’Aosta n. 29/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SI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, è doveroso il contraddittorio = TAR Marche 23/1/2017 n.66; TAR Liguria 15/12/2016 n.12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Verifica in contraddittorio con il concorr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Arial"/>
              </a:rPr>
              <a:t>SI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, secondo l’ANAC (delib. 672/2017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in linea di principio il </a:t>
            </a: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procedimento di verifica di anomalia è avulso da ogni formalismo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, essendo improntato alla massima collaborazione tra l’amministrazione e l’offerente, quale mezzo indispensabile per </a:t>
            </a:r>
            <a:r>
              <a:rPr b="1" lang="it-IT" sz="3200" spc="-1" strike="noStrike" u="sng">
                <a:solidFill>
                  <a:srgbClr val="002060"/>
                </a:solidFill>
                <a:uFillTx/>
                <a:latin typeface="Arial"/>
              </a:rPr>
              <a:t>l’effettiva instaurazione del contraddittorio 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ed il concreto apprezzamento dell’adeguatezza dell’off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Verifica in contraddittorio con il concorr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Sempre secondo l’ANAC (delib. 672/2017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il corretto svolgimento presuppone l’immodificabilità dell’offerta, ma la </a:t>
            </a: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sicura modificabilità delle giustificazioni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, nonché l’ammissibiltà di </a:t>
            </a: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giustificazioni  sopravvenute e compensazioni 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tra sottostime e sovrastim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purché l’offerta risulti nel suo complesso affid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Valutazione della congru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39840" y="1504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condo il comma 5, si esclude l'offerta anomala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) non rispetta gli obbligh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materia ambientale, sociale e del lavor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stabiliti dalla normativa europea e nazionale, dai contratti collettivi o da disposizioni internazionali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) non rispetta gli obblighi di cui all’art.105 (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ubappal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Secondo il comma 5, si esclude l'offerta anomala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) sono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incongrui gli oneri aziendali della sicurezza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ex art. 95 co. 10) rispetto all'entità e alle caratteristiche dei lavori, dei servizi e delle fornitu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) il costo del personale è inferiore ai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minimi salaria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indicati nelle tabelle previste dall’art. 23 co. 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Nuovo comma 10 dell’art. 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l'offerta economica l'operatore deve indic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i propri costi della manodopera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gli oneri aziendali per la sicurezza sui luoghi di lavo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Nuovo comma 10 dell’art. 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Sono esclus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forniture senza posa in oper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servizi di natura intellettu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li affidamenti diretti, ai sensi dell’articolo 36, comma 2, lettera 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 u="sng">
                <a:solidFill>
                  <a:srgbClr val="ff0000"/>
                </a:solidFill>
                <a:uFillTx/>
                <a:latin typeface="Arial"/>
              </a:rPr>
              <a:t>Principi generali</a:t>
            </a: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1-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stazione appaltante può sempre valutare la congruità di ogni offerta che, in base ad elementi specifici, appaia anormalmente bassa (art. 97 co. 6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Nuovo comma 10 dell’art. 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Semp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dipendentemente dalla «anomalia», si deve </a:t>
            </a: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verificare che il costo del personale non sia inferiore ai limiti salaria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Costo del persona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.lgs. 50/2016 ha cancellato la norma per cui il prezzo più basso era determinato al netto delle spese relative al costo del personale valutato sulla base dei minimi salari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art. 82 co. 3-bis d.lgs 163/2006 inserito dal DL 98/2013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Costo del persona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t. 23 co. 1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i contratti di lavori e servizi la stazione appaltante, al fine di determinare l’importo posto a base di gara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dividua nei documenti posti a base di gara i costi della manodopera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ulla base di quanto previsto nel presente com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Costo del persona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t. 23 co. 1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osto del lavoro è determinato annualmente in apposite tabelle dal Ministero del Lavoro e delle politiche sociali.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tabelle indican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l costo minim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inderogabile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l costo medi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derogabil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Valutazione della congruità </a:t>
            </a:r>
            <a:br>
              <a:rPr sz="3600"/>
            </a:b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(art.97 co.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to minim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n è derogabile. In sede di valutazione della congruit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0000"/>
                </a:solidFill>
                <a:uFillTx/>
                <a:latin typeface="Arial"/>
              </a:rPr>
              <a:t>non sono ammesse giustificazion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relazione a </a:t>
            </a:r>
            <a:r>
              <a:rPr b="1" lang="it-IT" sz="3200" spc="-1" strike="noStrike" u="sng">
                <a:solidFill>
                  <a:srgbClr val="ff0000"/>
                </a:solidFill>
                <a:uFillTx/>
                <a:latin typeface="Arial"/>
              </a:rPr>
              <a:t>salariali minimi inderogab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relazione agli oneri di sicurezza di cui al piano di sicurezza e coordinamento previsto dall'art. 100 del d.lgs. 81/2008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Valutazione della congruità </a:t>
            </a:r>
            <a:br>
              <a:rPr sz="3600"/>
            </a:b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(art.97 co.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to medi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al contrario, è derog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costi medi della manodopera, indicati nelle tabella ministeriali, non assumono valore di parametro assoluto ed inderogabile, ma svolgono una funzione indicativa, suscettibile di scostamento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ANAC delib. 672/2017 citando sentenze di TA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Valutazione della congruità  (art. 97 co.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Gli operatori forniscono </a:t>
            </a:r>
            <a:r>
              <a:rPr b="1" lang="it-IT" sz="2700" spc="-1" strike="noStrike" u="sng">
                <a:solidFill>
                  <a:srgbClr val="000000"/>
                </a:solidFill>
                <a:uFillTx/>
                <a:latin typeface="Arial"/>
              </a:rPr>
              <a:t>spiegazioni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 sulle offerte se queste appaiono anormalmente basse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Le spiegazioni possono riferirsi a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l’economia del processo di fabbricazione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dei prodotti, dei servizi o del metodo di costruzione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b) le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soluzioni tecniche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prescelte o le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condizioni eccezionalmente favorevoli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 di cui dispone l’offerente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l’originalità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 dei lavori, delle forniture o dei servizi proposti dall’offeren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Valutazione della congruità  (art. 97 co.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La stazione appaltante, qualora accerti che un’offerta è anormalmente bassa in quanto </a:t>
            </a:r>
            <a:r>
              <a:rPr b="0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l’offerente abbia ottenuto un aiuto di Stat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, può escludere tale offerta soltanto dopo aver consultato l’offerente e se quest’ultimo non è in grado di dimostrare che l’aiuto era compatibile con il mercato interno ai sensi dell’art. 107 TFUE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La stazione appaltante esclude un’offerta in tali circostanze e informa la Commissione europ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LE FORMULE: art. 97 lett. 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a) media aritmetica dei ribassi percentuali di tutte le offerte ammesse, con esclusione del </a:t>
            </a:r>
            <a:r>
              <a:rPr b="1" lang="it-IT" sz="2700" spc="-1" strike="noStrike">
                <a:solidFill>
                  <a:srgbClr val="ff0000"/>
                </a:solidFill>
                <a:latin typeface="Arial"/>
              </a:rPr>
              <a:t>VENTI per cento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, arrotondato all’unità superiore, rispettivamente delle offerte di maggior ribasso e di quelle di minor ribasso, incrementata dello scarto medio aritmetico dei ribassi percentuali che superano la predetta media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Offerte (sconti) = 2   3,1  4   5   7   8   9   10   12   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Taglio ali (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)= 2   3,1   4   5   7   8   9   10   12   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Media: (4+5+7+8+9+10) : 6 =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7,17</a:t>
            </a: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8 - 7,17=0,83       9 - 7,17=1,83      10 - 7,17=2,83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(0,83+1,83+2,83) : 3 =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1,83 </a:t>
            </a: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scarto medio aritmetico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7,17</a:t>
            </a: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media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+ 1,83</a:t>
            </a: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sma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soglia                               Ne consegue che 9 e 10 sono anoma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nettore 1 4"/>
          <p:cNvSpPr/>
          <p:nvPr/>
        </p:nvSpPr>
        <p:spPr>
          <a:xfrm>
            <a:off x="3132000" y="4292640"/>
            <a:ext cx="107964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Connettore 1 6"/>
          <p:cNvSpPr/>
          <p:nvPr/>
        </p:nvSpPr>
        <p:spPr>
          <a:xfrm>
            <a:off x="7524720" y="4365720"/>
            <a:ext cx="1008000" cy="142920"/>
          </a:xfrm>
          <a:prstGeom prst="line">
            <a:avLst/>
          </a:prstGeom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onnettore 1 8"/>
          <p:cNvSpPr/>
          <p:nvPr/>
        </p:nvSpPr>
        <p:spPr>
          <a:xfrm flipV="1">
            <a:off x="3203640" y="4365360"/>
            <a:ext cx="1008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nnettore 1 10"/>
          <p:cNvSpPr/>
          <p:nvPr/>
        </p:nvSpPr>
        <p:spPr>
          <a:xfrm flipV="1">
            <a:off x="7667640" y="4365360"/>
            <a:ext cx="72072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Art. 97 lett. b)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b) media aritmetica dei ribassi percentuali di tutte le offerte ammesse, </a:t>
            </a:r>
            <a:r>
              <a:rPr b="1" lang="it-IT" sz="2700" spc="-1" strike="noStrike">
                <a:solidFill>
                  <a:srgbClr val="ff0000"/>
                </a:solidFill>
                <a:latin typeface="Arial"/>
              </a:rPr>
              <a:t>con esclusione del VENTI per cento rispettivamente delle offerte di maggior ribasso e di quelle di minor ribasso arrotondato all’unità superiore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, tenuto conto che se la prima cifra dopo la virgola, della somma dei ribassi offerti dai concorrenti ammessi </a:t>
            </a:r>
            <a:r>
              <a:rPr b="0" i="1" lang="it-IT" sz="2700" spc="-1" strike="noStrike">
                <a:solidFill>
                  <a:srgbClr val="000000"/>
                </a:solidFill>
                <a:latin typeface="Arial"/>
              </a:rPr>
              <a:t>è pari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 ovvero uguale a zero la media resta invariata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qualora invece la prima cifra dopo la virgola, della somma dei ribassi offerti dai concorrenti ammessi è </a:t>
            </a:r>
            <a:r>
              <a:rPr b="0" i="1" lang="it-IT" sz="2700" spc="-1" strike="noStrike">
                <a:solidFill>
                  <a:srgbClr val="000000"/>
                </a:solidFill>
                <a:latin typeface="Arial"/>
              </a:rPr>
              <a:t>dispari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, la media viene decrementata percentualmente di un valore pari a tale cifra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 u="sng">
                <a:solidFill>
                  <a:srgbClr val="ff0000"/>
                </a:solidFill>
                <a:uFillTx/>
                <a:latin typeface="Arial"/>
              </a:rPr>
              <a:t>Principi generali</a:t>
            </a: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2-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caso d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EPV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verifica della congruità è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MPRE svolta dal RUP,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 il supporto della commissione di gara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caso d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inor prezz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il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band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stabilisce se la verifica è fatta dal R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LG.3 paragrafo 5.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riterio corretto (lett. b)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fferte (scont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  3,1  4  5  7  8  9  10  12 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mma dei ribassi =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+3,1+4+5+7+8+9+10+12+15 = 75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aglio ali (20%): 4  5  7  8  9  10  =&gt;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7,17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media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75,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=&gt; la prima cifra dopo la virgola è 1 (dispari), quindi la media è decrementata di tale cifra (1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7,17 – (1% di 7,17) =  7,10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ogl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art. 97 lett. 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) media aritmetica dei ribassi percentuali di tutte le offerte ammesse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incrementata del </a:t>
            </a:r>
            <a:r>
              <a:rPr b="1" lang="it-IT" sz="4100" spc="-1" strike="noStrike">
                <a:solidFill>
                  <a:srgbClr val="ff0000"/>
                </a:solidFill>
                <a:latin typeface="Arial"/>
              </a:rPr>
              <a:t>15%</a:t>
            </a:r>
            <a:r>
              <a:rPr b="1" lang="it-IT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prima era il 20%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 + 3,1 +  4 + 5 + 7 + 8 + 9 + 10 + 12 + 15 =&gt; medi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7,51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7,51 + (15% di 7,51) = 8,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art. 97 lett. 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media aritmetica di tutte le offerte ammesse incrementata del 10%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 + 3,1 +  4 + 5 + 7 + 8 + 9 + 10 + 12 + 15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7,51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dia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7,51 + (10% di 7,51) =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8,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art. 97 lett. 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e) media aritmetica dei ribassi percentuali di tutte le offerte ammesse, con esclusione del </a:t>
            </a:r>
            <a:r>
              <a:rPr b="1" lang="it-IT" sz="3000" spc="-1" strike="noStrike" u="sng">
                <a:solidFill>
                  <a:srgbClr val="000000"/>
                </a:solidFill>
                <a:uFillTx/>
                <a:latin typeface="Arial"/>
              </a:rPr>
              <a:t>dieci per cent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, arrotondato all’unità superiore, rispettivamente delle offerte di maggior ribasso e di quelle di minor ribasso, incrementata dello scarto medio aritmetico dei ribassi percentuali che superano la predetta media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moltiplicato per un coefficiente sorteggiato dalla commissione giudicatrice </a:t>
            </a:r>
            <a:r>
              <a:rPr b="1" lang="it-IT" sz="3300" spc="-1" strike="noStrike">
                <a:solidFill>
                  <a:srgbClr val="ff0000"/>
                </a:solidFill>
                <a:latin typeface="Arial"/>
              </a:rPr>
              <a:t>o, in mancanza dal RUP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,  all’atto del suo insediamento tra i seguenti valori: </a:t>
            </a:r>
            <a:r>
              <a:rPr b="1" lang="it-IT" sz="3300" spc="-1" strike="noStrike">
                <a:solidFill>
                  <a:srgbClr val="ff0000"/>
                </a:solidFill>
                <a:latin typeface="Arial"/>
              </a:rPr>
              <a:t>0,6; 0,7; 0,8; 0,9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art. 97 lett. 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fferte (sconti) = 2  3,1  4  5  7  8  9  10  12 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aglio ali (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,1  4  5  7  8  9  10  12 =&gt;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7,3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8-7,3=0,7    9-7,3=1,7    10-7,3=2,7   12-7,3=4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0,7+1,7+2,7+4,7)=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2,5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carto medio aritme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oefficiente estratto è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0,6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indi 2,5 x 0,6 =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1,5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7,3 + 1,5 =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8,8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og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Grazie per l’attenzione e buon lavor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3 - Non bisogna temere la procedura di valutazione della congruit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e valutazioni dell’amministrazione in ordine agli elementi e alla congruità della offerta sono espressione di un apprezzamento di natura tecnico discrezionale e </a:t>
            </a:r>
            <a:r>
              <a:rPr b="1" lang="it-IT" sz="3600" spc="-1" strike="noStrike">
                <a:solidFill>
                  <a:srgbClr val="0070c0"/>
                </a:solidFill>
                <a:latin typeface="Arial"/>
              </a:rPr>
              <a:t>possono essere sindacate solo in caso di macroscopica irragionevolezza o di decisivo errore di fat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Consiglio di Stato, Sez.V, n. 1465, 30.3.20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4 – il DIRIGENTE esclude la dit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01760" y="1467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La commissione, al massimo, può «proporre» provvedimenti di esclusione (bando tipo 1/2017, LG5 par.1.1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ma chi </a:t>
            </a: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ESCLUDE IL CONCORRENTE è il soggetto che ha il potere di impegnare l’amministrazione all’esterno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 (CDS, Sezione III, n. 2093/2017; TAR Lazio, Roma, Sezione III-quater, n. 4951/201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Offerte anormalmente basse (art. 9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fferta economicamente più vantaggios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congruità è valutata sulle offerte che presentano sia i punti relativi al prezzo, sia la somma dei punti relativi agli altri elementi di valutazione, entrambi pari o superiori ai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quattro quint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i punti massi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0840" y="4633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Offerte anormalmente basse (art. 9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riterio del </a:t>
            </a:r>
            <a:r>
              <a:rPr b="1" lang="it-IT" sz="4400" spc="-1" strike="noStrike" u="sng">
                <a:solidFill>
                  <a:srgbClr val="000000"/>
                </a:solidFill>
                <a:uFillTx/>
                <a:latin typeface="Arial"/>
              </a:rPr>
              <a:t>prezzo più </a:t>
            </a: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bass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il calcolo della soglia è effettuato se il numero delle offerte è pari o superiore a 5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(il comma 3bis ha recepito il comunicato del Presidente ANAC 5/10/201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Prezzo più basso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9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it-IT" sz="5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a congruità è valutata per ribassi pari o superiore ad una soglia determinata con 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una delle cinque formule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previste dall’art. 97 </a:t>
            </a: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(e oggi tutte applicabili)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Prezzo più bass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formula è scelta con un </a:t>
            </a: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SORTEGG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svolto dalla commissione o dal R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5:44:14Z</dcterms:created>
  <dc:creator>omar gozzoli</dc:creator>
  <dc:description/>
  <dc:language>en-US</dc:language>
  <cp:lastModifiedBy>Segretario Comunale - Comune di Roncadelle</cp:lastModifiedBy>
  <cp:lastPrinted>2014-01-28T11:27:24Z</cp:lastPrinted>
  <dcterms:modified xsi:type="dcterms:W3CDTF">2019-03-20T15:44:19Z</dcterms:modified>
  <cp:revision>1504</cp:revision>
  <dc:subject/>
  <dc:title>Ordinamento finanziario e contabile</dc:title>
</cp:coreProperties>
</file>