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64F0-FF0F-4546-8E77-78F0D6FC7C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egnaposto numero diapositiva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579A-EA0B-42C4-A905-1B85AF4C13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egnaposto numero diapositiva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6220-8EA8-44C1-9DAB-BFAAC84514A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1F2-6125-45B8-885D-5C9855C4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07F-7431-41DD-87E4-9A4F733F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9D2-6759-4BA3-86AB-CB698B6C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F48-D311-46D5-8D28-ACC096C9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9ACE-5AAE-4D7F-965F-9D3FCAD7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726-93C6-4A88-A548-D9698C6D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E75-E56C-4C6F-95F7-C1B9F7DA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A59-26E1-4DFA-A8BC-6949D5BB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2CD-7412-4271-974C-FB670834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18A-385E-419E-8002-A342692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54F-BF75-4742-ABA5-2F681F6B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D07-9C18-441F-A678-816DF49F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43E6-57F5-485E-944F-D2279850CD4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La gestione del contratto</a:t>
            </a:r>
            <a:br>
              <a:rPr sz="6000"/>
            </a:b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d.lgs. 50/2016 modificato dal d.lgs. 56/201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Ci salva la legge 180/2011, art.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Arial"/>
              </a:rPr>
              <a:t>micro, piccole e medie imprese: </a:t>
            </a: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le amministrazioni chiedono </a:t>
            </a:r>
            <a:r>
              <a:rPr b="1" lang="it-IT" sz="3300" spc="-1" strike="noStrike">
                <a:solidFill>
                  <a:srgbClr val="ff0000"/>
                </a:solidFill>
                <a:latin typeface="Arial"/>
              </a:rPr>
              <a:t>solo all'impresa aggiudicataria la documentazione probatoria i requisiti</a:t>
            </a: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econdo l’art. 3 lett. aa) sono micro, piccole e medie imprese quelle individuate nella Raccomandazione n. 2003/361/CE della Commissione del 6.5.200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particolare, sono medie imprese quella che hanno meno di 250 occupati e un fatturato annuo non superiore a 50 milioni di euro, oppure un totale di bilancio annuo non superiore a 43 milioni di eu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Nuovo comma 6-bis dell’art. 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ei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mercati elettronici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per gli affidamenti di importo inferiore a 40.000 euro, la verifica sull’assenza dei motivi di esclusione di cui all’art. 80 è effettuata su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un campione significativo in fase di ammissione e di permanenza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dal soggetto responsabile dell’ammissione al mercato elettronic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Resta ferma la verifica sull’aggiudicatari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7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Art. 81 Documentazione di g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La documentazione comprovante il possesso dei requisiti generali, tecnico-professionali ed economico-finanziari è acquisita dalla banca dati del Ministero delle infrastrutture e dei trasporti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 u="sng">
                <a:solidFill>
                  <a:srgbClr val="ff0000"/>
                </a:solidFill>
                <a:uFillTx/>
                <a:latin typeface="Arial"/>
              </a:rPr>
              <a:t>Banca dati nazionale degli operatori economici</a:t>
            </a:r>
            <a:r>
              <a:rPr b="0" lang="it-IT" sz="27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it-IT" sz="2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E’ necessario un decreto attuativo per attivare la suddetta banca dati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Fino alla data di entrata in vigore del decreto di cui al presente comma, si utilizza </a:t>
            </a:r>
            <a:r>
              <a:rPr b="1" lang="it-IT" sz="2700" spc="-1" strike="noStrike">
                <a:solidFill>
                  <a:srgbClr val="ff0000"/>
                </a:solidFill>
                <a:latin typeface="Arial"/>
              </a:rPr>
              <a:t>AVC Pas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(art. 216 co. 13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La firma del contrat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4986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contratto è stipulato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n prima di 35gg («termine dilatorio») dall’invio dell’ultima delle comunicazioni di aggiudicazione (art. 76)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on oltre 60 giorni dalla medesima comunicazione.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9120" y="4507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Non c’è periodo dilatorio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quando a seguito di pubblicazione del bando o avviso, o inoltro di inviti, sia stata presentata, o sia stata ammessa,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una sola offerta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e non siano state proposte impugnazioni del bando o dell’invito, ovvero tali ricorsi risultino già respinti con decisione definitiv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ei casi d’appalti basati su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accordo quadro e su sistema dinamico di acquisizione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(artt. 59 e 60 del Codice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nei casi di acquisto attraverso il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MePA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57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0000"/>
                </a:solidFill>
                <a:latin typeface="Arial"/>
              </a:rPr>
              <a:t>nel caso di affidamenti diretti fino a 40m euro (art. 36 lett.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57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ff0000"/>
                </a:solidFill>
                <a:latin typeface="Arial"/>
              </a:rPr>
              <a:t>nel caso di negoziata (art. 36 lett.b) da 40m a 150m per i lavori, da 40m a soglia per forniture e serviz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4f6228"/>
                </a:solidFill>
                <a:latin typeface="Arial"/>
              </a:rPr>
              <a:t>Esecuzione d’urgen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esecuzione della prestazione prima della stipulazione del contrat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uò essere disposta, per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motivi di urgenz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dal </a:t>
            </a:r>
            <a:r>
              <a:rPr b="1" lang="it-IT" sz="3600" spc="-1" strike="noStrike" u="sng">
                <a:solidFill>
                  <a:srgbClr val="4f6228"/>
                </a:solidFill>
                <a:uFillTx/>
                <a:latin typeface="Arial"/>
              </a:rPr>
              <a:t>responsabile del procedimen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art. 32 co.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L’art.11 d.lgs.163/2006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Arial"/>
              </a:rPr>
              <a:t>PRIMA,</a:t>
            </a:r>
            <a:r>
              <a:rPr b="0" lang="it-IT" sz="5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’esecuzione d’urgenza era consenti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le procedur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nz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pubblicazione del bando di gar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i casi in cui la mancata esecuzione immediata della prestazione avrebbe determinato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un grave danno all'interesse pubblic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compresa la perdita di finanziamenti comunita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nettore diritto 2"/>
          <p:cNvSpPr/>
          <p:nvPr/>
        </p:nvSpPr>
        <p:spPr>
          <a:xfrm flipH="1">
            <a:off x="826560" y="1628640"/>
            <a:ext cx="5905800" cy="4537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OGGI l’esecuzione d’urg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è ammess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per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eventi oggettivamente imprevedibili</a:t>
            </a: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per ovviare a situazioni di pericolo</a:t>
            </a:r>
            <a:r>
              <a:rPr b="0" lang="it-IT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lang="it-IT" sz="37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persone, animali o cose, per l'igiene e la salute pubblica, per il patrimonio, storico, artistico, culturale”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2- nei casi in cui la mancata esecuzione immediata della prestazione determinerebbe un </a:t>
            </a:r>
            <a:r>
              <a:rPr b="1" lang="it-IT" sz="2900" spc="-1" strike="noStrike" u="sng">
                <a:solidFill>
                  <a:srgbClr val="ff0000"/>
                </a:solidFill>
                <a:uFillTx/>
                <a:latin typeface="Arial"/>
              </a:rPr>
              <a:t>grave danno all'interesse pubblico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he è destinata a soddisfare, compresa la perdita di finanziamenti comunitar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Esecuzione d’urg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alora, avviata d’urgenza l’esecuzione, la stazione appaltante non rispetti il termine massimo per la conclusione del contratto e l’aggiudicatario decida di recedere, questi ha diritto al solo rimborso delle spese sostenute per le prestazioni esplet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4935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l contratto d’appalto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(art.32 co.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ntratto è stipulato, a pena di nullità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atto pubblico notarile informatic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modalità elettronica, in forma pubblica amministrativa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ante scrittura priv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La proposta di aggiudicazione (art. 32 co.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l’atto che chiude la prima parte del procedimento di selez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procedimento potrebbe anche concludersi senza aggiudicazione. 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935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l contratto d’appalto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(art.32 co.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ntratto è stipulato, a pena di nullità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in caso di procedura negoziata o per affidamenti fino a 40.000 euro, mediante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corrispondenz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condo l’uso del commercio consistente in un apposito scambio di lett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LG4: è una forma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facoltativa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, NON OBBLIGATO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contratto d’appal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art. 32 co.14-b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4-bis. I capitolati e il computo estimativo metrico, richiamati nel bando o nell’invito, fanno parte integrante del contrat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Riscuotere i diritti di segrete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rt.13 del DL 52/201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 contratti relativi agli acquisti di beni e servizi degli enti locali, ove 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beni o i serviz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acquistare risultin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ponibili mediante strumenti informatici di acquis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non trova applicazione quanto previsto dall’art. 40 della legge 604/196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0000"/>
                </a:solidFill>
                <a:latin typeface="Arial"/>
              </a:rPr>
              <a:t>SI, riscuoter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Corte conti Lombardia 275/2015/PAR 10.9.2015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risulta ragionevole ritenere che si possa ricorrere alla deroga introdotta dall’art.13 del DL 52/2012 nei soli casi nei qual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intera procedura, dall’ordine al contratto, avvenga e si concluda in forma elettron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B) …nel 2014 la Corte aveva sostenuto il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4221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GARANZ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fd30ff"/>
                </a:solidFill>
                <a:latin typeface="Arial"/>
              </a:rPr>
              <a:t>Garanz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aranzia provvisoria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di cui </a:t>
            </a:r>
            <a:r>
              <a:rPr b="1" lang="it-IT" sz="3600" spc="-1" strike="noStrike">
                <a:solidFill>
                  <a:srgbClr val="880089"/>
                </a:solidFill>
                <a:latin typeface="Arial"/>
              </a:rPr>
              <a:t>all’art.93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del Codice, per tutti i concorrent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garanzia definitiva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di cui </a:t>
            </a:r>
            <a:r>
              <a:rPr b="1" lang="it-IT" sz="3600" spc="-1" strike="noStrike">
                <a:solidFill>
                  <a:srgbClr val="880089"/>
                </a:solidFill>
                <a:latin typeface="Arial"/>
              </a:rPr>
              <a:t>all’art.103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per il solo aggiudicatari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d30ff"/>
                </a:solidFill>
                <a:latin typeface="Arial"/>
              </a:rPr>
              <a:t>Garanzia provvisori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'offerta è corredata da 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aranzia provviso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i al </a:t>
            </a:r>
            <a:r>
              <a:rPr b="1" lang="it-IT" sz="3600" spc="-1" strike="noStrike">
                <a:solidFill>
                  <a:srgbClr val="880089"/>
                </a:solidFill>
                <a:latin typeface="Arial"/>
              </a:rPr>
              <a:t>due per cent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prezzo base indicato nel bando o nell'invito, in forma di cauzione o di fideiuss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3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d30ff"/>
                </a:solidFill>
                <a:latin typeface="Arial"/>
              </a:rPr>
              <a:t>Correzione OK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stata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cancell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norma </a:t>
            </a:r>
            <a:r>
              <a:rPr b="1" lang="it-IT" sz="4000" spc="-1" strike="noStrike">
                <a:solidFill>
                  <a:srgbClr val="7030a0"/>
                </a:solidFill>
                <a:latin typeface="Arial"/>
              </a:rPr>
              <a:t>IDIO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 la quale la garanzia provvisor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copre la mancata sottoscrizione del contratto dopo l'aggiudicazione definitiva, per fatto dell'affidatario riconducibile ad una condotta connotata da </a:t>
            </a:r>
            <a:r>
              <a:rPr b="1" i="1" lang="it-IT" sz="3200" spc="-1" strike="noStrike">
                <a:solidFill>
                  <a:srgbClr val="880089"/>
                </a:solidFill>
                <a:latin typeface="Arial"/>
              </a:rPr>
              <a:t>dolo o colpa grav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ttore diritto 2"/>
          <p:cNvSpPr/>
          <p:nvPr/>
        </p:nvSpPr>
        <p:spPr>
          <a:xfrm>
            <a:off x="1619280" y="3141720"/>
            <a:ext cx="6048360" cy="230328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nnettore diritto 2"/>
          <p:cNvSpPr/>
          <p:nvPr/>
        </p:nvSpPr>
        <p:spPr>
          <a:xfrm flipV="1">
            <a:off x="1403280" y="3141720"/>
            <a:ext cx="6048360" cy="244800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7030a0"/>
                </a:solidFill>
                <a:latin typeface="Arial"/>
              </a:rPr>
              <a:t>OGGI: art. 93 co. 6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aranzia copre la </a:t>
            </a:r>
            <a:r>
              <a:rPr b="1" lang="it-IT" sz="3200" spc="-1" strike="noStrike">
                <a:solidFill>
                  <a:srgbClr val="880089"/>
                </a:solidFill>
                <a:latin typeface="Arial"/>
              </a:rPr>
              <a:t>mancata sottoscri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 contratto dopo l’aggiud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80089"/>
                </a:solidFill>
                <a:latin typeface="Arial"/>
              </a:rPr>
              <a:t>dovuta ad ogni fatto riconducibile all’affidat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 all’adozione di informazione </a:t>
            </a:r>
            <a:r>
              <a:rPr b="1" lang="it-IT" sz="3200" spc="-1" strike="noStrike">
                <a:solidFill>
                  <a:srgbClr val="880089"/>
                </a:solidFill>
                <a:latin typeface="Arial"/>
              </a:rPr>
              <a:t>antimaf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nterdittiva emessa ai sensi degli art. 84 e 91 del d.lgs. 159/201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Altra novità (art. 93 co. 1)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caso di </a:t>
            </a: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affidamento diret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art. 36 co. 2 lett. 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Arial"/>
              </a:rPr>
              <a:t>è facoltà della stazione appaltante </a:t>
            </a: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non richiedere le garanzie o cauzioni dell’art. 93 (</a:t>
            </a:r>
            <a:r>
              <a:rPr b="1" lang="it-IT" sz="3600" spc="-1" strike="noStrike" u="sng">
                <a:solidFill>
                  <a:srgbClr val="7030a0"/>
                </a:solidFill>
                <a:uFillTx/>
                <a:latin typeface="Arial"/>
              </a:rPr>
              <a:t>provvisorie</a:t>
            </a: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proposta di aggiudicazione (art. 32 co.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L’art.95 co.12 prevede che «se nessuna offerta risulti conveniente o idonea» si  possa decidere di non aggiudicar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0000"/>
                </a:solidFill>
                <a:latin typeface="Arial"/>
              </a:rPr>
              <a:t>Tale facoltà </a:t>
            </a:r>
            <a:r>
              <a:rPr b="1" lang="it-IT" sz="3400" spc="-1" strike="noStrike" u="sng">
                <a:solidFill>
                  <a:srgbClr val="ff0000"/>
                </a:solidFill>
                <a:uFillTx/>
                <a:latin typeface="Arial"/>
              </a:rPr>
              <a:t>deve essere indicata espressamente nel bando o nell'invito.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Nel caso di «non aggiudicazione», non dimenticate gli obblighi di comunicazione ai candidati (artt. 29 e 76 co. 5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d30ff"/>
                </a:solidFill>
                <a:latin typeface="Arial"/>
              </a:rPr>
              <a:t>Garanzia provvisori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Al fine di rendere l'importo della garanzia proporzionato e adeguato alla natura delle prestazioni oggetto del contratto e al grado di rischio ad esso connesso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stazione appaltante può </a:t>
            </a:r>
            <a:r>
              <a:rPr b="1" lang="it-IT" sz="3200" spc="-1" strike="noStrike" u="sng">
                <a:solidFill>
                  <a:srgbClr val="fd30ff"/>
                </a:solidFill>
                <a:uFillTx/>
                <a:latin typeface="Arial"/>
              </a:rPr>
              <a:t>motivatam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idurre l'importo della cauzione sino all‘1% o aumentarlo sino al 4%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7030a0"/>
                </a:solidFill>
                <a:latin typeface="Arial"/>
              </a:rPr>
              <a:t>Art. 93 co.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3200" spc="-1" strike="noStrike" u="sng">
                <a:solidFill>
                  <a:srgbClr val="880089"/>
                </a:solidFill>
                <a:uFillTx/>
                <a:latin typeface="Arial"/>
              </a:rPr>
              <a:t>cau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uò essere costituita, a scelta dell'offeren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it-IT" sz="3200" spc="-1" strike="noStrike" u="sng">
                <a:solidFill>
                  <a:srgbClr val="880089"/>
                </a:solidFill>
                <a:uFillTx/>
                <a:latin typeface="Arial"/>
              </a:rPr>
              <a:t>contant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3200" spc="-1" strike="noStrike">
                <a:solidFill>
                  <a:srgbClr val="880089"/>
                </a:solidFill>
                <a:latin typeface="Arial"/>
              </a:rPr>
              <a:t>fermo il limite ex art. 49 del d.lgs. 231/2007 di 3m eur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it-IT" sz="3200" spc="-1" strike="noStrike" u="sng">
                <a:solidFill>
                  <a:srgbClr val="880089"/>
                </a:solidFill>
                <a:uFillTx/>
                <a:latin typeface="Arial"/>
              </a:rPr>
              <a:t>titoli</a:t>
            </a:r>
            <a:r>
              <a:rPr b="1" lang="it-IT" sz="3200" spc="-1" strike="noStrike">
                <a:solidFill>
                  <a:srgbClr val="880089"/>
                </a:solidFill>
                <a:latin typeface="Arial"/>
              </a:rPr>
              <a:t> del debito pubblic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arantiti dallo Stato depositati presso una sezione di tesoreria provinciale o presso le aziende autorizz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7030a0"/>
                </a:solidFill>
                <a:latin typeface="Arial"/>
              </a:rPr>
              <a:t>Art. 93 co. 6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a garanzia provvisoria 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7030a0"/>
                </a:solidFill>
                <a:latin typeface="Arial"/>
              </a:rPr>
              <a:t>svincolata automaticamen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l momento della sottoscrizione del contrat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7030a0"/>
                </a:solidFill>
                <a:latin typeface="Arial"/>
              </a:rPr>
              <a:t>Garanzia provvisor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. 93 co. 10, non si applica agli appalti di servizi aventi a ogget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redazione della progett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iano di sicurezza e coordinam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compiti di supporto alle attività del responsabile unico del procedimento (art.93 co.10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Riduzio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'importo della garanzia è ridotto del 50% per gli operatori con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certificazione del sistema di qualità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Riduzio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128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i applica la riduzione del 50%, non cumulabile con quella di cui al primo periodo, anche nei confronti delle </a:t>
            </a:r>
            <a:r>
              <a:rPr b="1" lang="it-IT" sz="3200" spc="-1" strike="noStrike" u="sng">
                <a:solidFill>
                  <a:srgbClr val="880089"/>
                </a:solidFill>
                <a:uFillTx/>
                <a:latin typeface="Arial"/>
              </a:rPr>
              <a:t>microimprese, piccole e medie imprese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e dei raggruppamenti di operatori o consorzi ordinari costituiti esclusivamente da micro, piccole e medie impre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Riduzio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11480" indent="-411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i contratti relativi 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lavori, servizi o fornitu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l'importo della garanzia è ridotto de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nche cumulabile</a:t>
            </a: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on la riduzione di cui al primo period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per gli operatori economici in possesso di registrazione a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stema comunitario di ecogestione e audit (EMAS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ai sensi del regolamento (CE) n. 1221/2009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 de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0% per gli operatori in possesso di certificazione ambient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i sensi della norma UNI EN ISO 14001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Riduzio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1128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i contratti relativi 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servizi o fornitu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l'importo della garanzia e del suo eventuale rinnovo è ridotto del </a:t>
            </a:r>
            <a:r>
              <a:rPr b="1" lang="it-IT" sz="2400" spc="-1" strike="noStrike">
                <a:solidFill>
                  <a:srgbClr val="880089"/>
                </a:solidFill>
                <a:latin typeface="Arial"/>
              </a:rPr>
              <a:t>20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nche cumulabile con la riduzione di cui ai periodi primo e second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er gli operatori economici in possesso, in relazione ai beni o servizi che costituiscan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meno il 50% del valore dei beni e servizi oggetto del contratto stess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l marchio di qualità ecologica dell'Unione europea (Ecolabel UE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i sensi del regolamento (CE) n. 66/2010 del Parlamento europeo e del Consiglio, del 25 novembre 200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Arial"/>
              </a:rPr>
              <a:t>Giusta integrazione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80520" indent="-380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i contratti relativi a lavori, servizi o forniture, l'importo della garanzia e del suo eventuale rinnovo è ridotto del </a:t>
            </a:r>
            <a:r>
              <a:rPr b="1" lang="it-IT" sz="3200" spc="-1" strike="noStrike">
                <a:solidFill>
                  <a:srgbClr val="880089"/>
                </a:solidFill>
                <a:latin typeface="Arial"/>
              </a:rPr>
              <a:t>15%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nche cumulabile con le riduzioni di cui sopr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per gli operatori economici che sviluppano un inventario di gas ad effetto serra ai sensi della norma UNI EN ISO 14064-1 o un'impronta climatic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carbon footprint)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 prodotto ai sensi della norma UNI ISO/TS 14067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520" indent="-38052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0000"/>
                </a:solidFill>
                <a:latin typeface="Arial"/>
              </a:rPr>
              <a:t>Riduzion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666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8000" indent="-3780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ei contratti di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servizi e fornitur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l’importo della garanzia e del suo eventuale rinnovo è ridotto del </a:t>
            </a:r>
            <a:r>
              <a:rPr b="1" lang="it-IT" sz="2200" spc="-1" strike="noStrike">
                <a:solidFill>
                  <a:srgbClr val="880089"/>
                </a:solidFill>
                <a:latin typeface="Arial"/>
              </a:rPr>
              <a:t>30%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Arial"/>
              </a:rPr>
              <a:t>non cumulabile con le riduzioni di cui ai periodi precedent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, per gli operatori economici in possesso del rating di legalità o della attestazione del modello organizzativo, ai sensi del d.lgs. 231/2001 o di certificazione social accountability 8000, o di certificazione del sistema di gestione a tutela della sicurezza e della salute dei lavoratori, o di certificazione OHSAS 18001, o di certificazione UNI CEI EN ISO 50001 riguardante il sistema di gestione dell’energia o UNI CEI 11352 riguardante la certificazione di operatività in qualità di ESC (Energy Service Company) per l’offerta qualitativa dei servizi energetici e per gli operatori economici in possesso della certificazione ISO 27001 riguardante il sistema di gestione della sicurezza del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Procedura di aggiudicazion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67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pos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soggetta ad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pprov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parte “dell’organo competente secondo l’ordinamento della stazione appaltante" (art. 33). In seguito ad approvazione, la “PROPOSTA” diviene “AGGIUDICAZION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gli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nti loc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rovvede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rig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’ufficio titolare della procedura d’affidamento, nel termine di 30 giorni (fatta salva una diversa regolamentazione del comu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termine può essere interrott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a richiesta di chiarimenti o documenti, ed inizia nuovamente a decorrere da quando i chiarimenti o documenti pervengono all’organo richied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corso il termine per provvedere, l’aggiudicazione si intende approva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0000"/>
                </a:solidFill>
                <a:latin typeface="Arial"/>
              </a:rPr>
              <a:t>art.93 co.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552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Non si applica più a micro, piccole e medie imprese la norma per cu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na l’esclusione, la garanzia provvisoria deve contenere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’impegno a rilasciare la cauzione definitiva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70c0"/>
                </a:solidFill>
                <a:latin typeface="Arial"/>
              </a:rPr>
              <a:t>Garanzia definitiva (art.10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ppaltatore, per sottoscrivere il contratto, deve costituire una garanzia definitiva, sotto forma di cauzione o fideiussio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ari al 10%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l'importo contrattu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ale obbligazione è indicata negli atti e documenti a base di affidamento di lavori, di servizi e di forni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70c0"/>
                </a:solidFill>
                <a:latin typeface="Arial"/>
              </a:rPr>
              <a:t>Garanzia definitiva (art.1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caso di aggiudicazione con ribassi superiori al 10%, la garanzia è aumentata di tanti punti percentuali quanti sono quelli eccedenti il 10%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ve il ribasso sia superiore al 20%, l'aumento è di 2 punti percentuali per ogni punto di ribasso superiore al 20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70c0"/>
                </a:solidFill>
                <a:latin typeface="Arial"/>
              </a:rPr>
              <a:t>Garanzia definitiva (art.10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aranzia </a:t>
            </a:r>
            <a:r>
              <a:rPr b="1" lang="it-IT" sz="3600" spc="-1" strike="noStrike">
                <a:solidFill>
                  <a:srgbClr val="0070c0"/>
                </a:solidFill>
                <a:latin typeface="Arial"/>
              </a:rPr>
              <a:t>dell'adempimento di tutte le obbligazioni del contratto</a:t>
            </a:r>
            <a:r>
              <a:rPr b="0" lang="it-IT" sz="3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de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isarcimento dei dan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rivanti dall'eventuale inadempimento delle obbligazioni stes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ché a garanzia del rimborso del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omme pagate in più all'esecuto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ispetto alle risultanze della liquidazione finale, salva comunque la risarcibilità del maggior danno verso l'appaltat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70c0"/>
                </a:solidFill>
                <a:latin typeface="Arial"/>
              </a:rPr>
              <a:t>Garanzia definitiva (art.10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aranzia cessa alla data di emissione del certificato di collaudo provvisorio o del certificato di regolare esecuzione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stazione appaltante può richiedere al soggetto aggiudicatario la reintegrazione della garanzia ove questa sia venuta meno in tutto o in par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 in caso di inottemperanza, la reintegrazione si effettua a valere sui ratei di prezzo da corrispondere all'esecut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70c0"/>
                </a:solidFill>
                <a:latin typeface="Arial"/>
              </a:rPr>
              <a:t>Garanzia definitiva (art.10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1280" y="1844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nche alla garanzia definitiv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i applicano le riduzio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reviste dall'art. 93 co.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r la provvisor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70c0"/>
                </a:solidFill>
                <a:latin typeface="Arial"/>
              </a:rPr>
              <a:t>Garanzia definitiva (art.10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ncata costituzione della garanzia determina la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decadenz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l'affidamento e l'acquisizione della cauzione provvisoria da parte della stazione appaltan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he aggiudica l'appalto o la concessione al concorrente che segue nella graduato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70c0"/>
                </a:solidFill>
                <a:latin typeface="Arial"/>
              </a:rPr>
              <a:t>Art. 103 c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coltà di non chiedere la garanzia defini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it-IT" sz="3200" spc="-1" strike="noStrike">
                <a:solidFill>
                  <a:srgbClr val="0070c0"/>
                </a:solidFill>
                <a:latin typeface="Arial"/>
              </a:rPr>
              <a:t>per gli affidamenti diretti di cui all’articolo 36 co. 2 lett. a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70c0"/>
                </a:solidFill>
                <a:latin typeface="Arial"/>
              </a:rPr>
              <a:t>Art. 103 c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128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- per gli appalti da eseguirsi da </a:t>
            </a:r>
            <a:r>
              <a:rPr b="1" lang="it-IT" sz="2800" spc="-1" strike="noStrike">
                <a:solidFill>
                  <a:srgbClr val="0070c0"/>
                </a:solidFill>
                <a:latin typeface="Arial"/>
              </a:rPr>
              <a:t>operatori economici di </a:t>
            </a:r>
            <a:r>
              <a:rPr b="1" lang="it-IT" sz="2800" spc="-1" strike="noStrike" u="sng">
                <a:solidFill>
                  <a:srgbClr val="0070c0"/>
                </a:solidFill>
                <a:uFillTx/>
                <a:latin typeface="Arial"/>
              </a:rPr>
              <a:t>comprovata solidità</a:t>
            </a:r>
            <a:r>
              <a:rPr b="1" lang="it-IT" sz="2800" spc="-1" strike="noStrike">
                <a:solidFill>
                  <a:srgbClr val="0070c0"/>
                </a:solidFill>
                <a:latin typeface="Arial"/>
              </a:rPr>
              <a:t>;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3- per le </a:t>
            </a:r>
            <a:r>
              <a:rPr b="1" lang="it-IT" sz="2800" spc="-1" strike="noStrike" u="sng">
                <a:solidFill>
                  <a:srgbClr val="0070c0"/>
                </a:solidFill>
                <a:uFillTx/>
                <a:latin typeface="Arial"/>
              </a:rPr>
              <a:t>forniture di ben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 per la loro </a:t>
            </a:r>
            <a:r>
              <a:rPr b="1" lang="it-IT" sz="2800" spc="-1" strike="noStrike" u="sng">
                <a:solidFill>
                  <a:srgbClr val="0070c0"/>
                </a:solidFill>
                <a:uFillTx/>
                <a:latin typeface="Arial"/>
              </a:rPr>
              <a:t>natur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o per </a:t>
            </a:r>
            <a:r>
              <a:rPr b="1" lang="it-IT" sz="2800" spc="-1" strike="noStrike" u="sng">
                <a:solidFill>
                  <a:srgbClr val="0070c0"/>
                </a:solidFill>
                <a:uFillTx/>
                <a:latin typeface="Arial"/>
              </a:rPr>
              <a:t>l'uso speciale</a:t>
            </a:r>
            <a:r>
              <a:rPr b="1" lang="it-IT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ui sono destinati, debbano essere </a:t>
            </a:r>
            <a:r>
              <a:rPr b="1" lang="it-IT" sz="2800" spc="-1" strike="noStrike">
                <a:solidFill>
                  <a:srgbClr val="0070c0"/>
                </a:solidFill>
                <a:latin typeface="Arial"/>
              </a:rPr>
              <a:t>acquistati nel luogo di produzione o forniti direttamente dai produttori o di prodotti d'arte, </a:t>
            </a:r>
            <a:r>
              <a:rPr b="1" lang="it-IT" sz="2800" spc="-1" strike="noStrike" u="sng">
                <a:solidFill>
                  <a:srgbClr val="0070c0"/>
                </a:solidFill>
                <a:uFillTx/>
                <a:latin typeface="Arial"/>
              </a:rPr>
              <a:t>macchinari</a:t>
            </a:r>
            <a:r>
              <a:rPr b="1" lang="it-IT" sz="2800" spc="-1" strike="noStrike">
                <a:solidFill>
                  <a:srgbClr val="0070c0"/>
                </a:solidFill>
                <a:latin typeface="Arial"/>
              </a:rPr>
              <a:t>, </a:t>
            </a:r>
            <a:r>
              <a:rPr b="1" lang="it-IT" sz="2800" spc="-1" strike="noStrike" u="sng">
                <a:solidFill>
                  <a:srgbClr val="0070c0"/>
                </a:solidFill>
                <a:uFillTx/>
                <a:latin typeface="Arial"/>
              </a:rPr>
              <a:t>strum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Arial"/>
              </a:rPr>
              <a:t>e lavori di precisione l'esecuzione dei quali deve essere affidata a operatori specializza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70c0"/>
                </a:solidFill>
                <a:latin typeface="Arial"/>
              </a:rPr>
              <a:t>Art. 103 co.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hanno modificato la previsione per cu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'esonero dalla prestazione della garanzia deve essere </a:t>
            </a:r>
            <a:r>
              <a:rPr b="1" lang="it-IT" sz="3600" spc="-1" strike="noStrike" u="sng">
                <a:solidFill>
                  <a:srgbClr val="0070c0"/>
                </a:solidFill>
                <a:uFillTx/>
                <a:latin typeface="Arial"/>
              </a:rPr>
              <a:t>adeguatamente motiva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d è subordinato ad un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miglioramento del prezz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aggiudicazione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70c0"/>
                </a:solidFill>
                <a:latin typeface="Arial"/>
              </a:rPr>
              <a:t>Quindi, cautela anche per gli affidamenti dirett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Aggiudicazione (artt. 32 e 3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irigente approva l’aggiudicazione con un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termin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tale provvedimento il dirigente fa proprie le risultanze dei lavori del seggio di gara riassunti nel verba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dirigente potrebbe non approvare le risultanze del verbale, qualora ravvisasse carenze o illegittimit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caso, dovrebbe riconvocare il seggio perché provveda a porvi rimed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rammenta che in tali ipotesi trovano applicazione, oltre ai principi generali del codice (art. 30), le disposizioni del Capo IV-bis (Efficacia ed invalidità del provvedimento amministrativo. Revoca e recesso) della legge 241/1990 sul procedimento amministrativo, legge la cui efficacia è estesa alle procedure d’appalto dall’art. 30 co. 8 del Cod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604a7b"/>
                </a:solidFill>
                <a:latin typeface="Arial"/>
              </a:rPr>
              <a:t>Assicurazio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.lgs. 163/2006 ed il DPR 207/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prevedevano una specifica assicurazione dell’aggiudicatario per contratti di servizi o fornitu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he tutelasse la stazione appaltante dai rischi di esecu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604a7b"/>
                </a:solidFill>
                <a:latin typeface="Arial"/>
              </a:rPr>
              <a:t>Assicurazion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nuovo Codice fa lo stesso e la lacuna non è stata colm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rt. 103 co. 7 e 8 si limita a normare le assicurazioni a carico degli esecutori di lavori pubbl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tanto è opportuno che sia il bando (o il contratto) a disciplinare gli obblighi assicurativi dell'aggiudicatar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04a7b"/>
                </a:solidFill>
                <a:latin typeface="Arial"/>
              </a:rPr>
              <a:t>Le assicurazioni dell’appaltato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dice prevede che «un livello adeguato di copertura assicurativa contro i rischi professionali» sia un (eventuale) </a:t>
            </a:r>
            <a:r>
              <a:rPr b="0" lang="it-IT" sz="3200" spc="-1" strike="noStrike">
                <a:solidFill>
                  <a:srgbClr val="7030a0"/>
                </a:solidFill>
                <a:latin typeface="Arial"/>
              </a:rPr>
              <a:t>parametro di valutazione della capacità economico/finanziaria</a:t>
            </a:r>
            <a:r>
              <a:rPr b="0" lang="it-IT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art.83 co.4 lett.c), e non un requisito imprescindibile come previsto per gli esecutori dei lavori pubblici dall’art.10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04a7b"/>
                </a:solidFill>
                <a:latin typeface="Arial"/>
              </a:rPr>
              <a:t>Le assicurazioni dell’appaltato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L’appaltatore di LAVORI è </a:t>
            </a:r>
            <a:r>
              <a:rPr b="1" lang="it-IT" sz="2700" spc="-1" strike="noStrike">
                <a:solidFill>
                  <a:srgbClr val="604a7b"/>
                </a:solidFill>
                <a:latin typeface="Arial"/>
              </a:rPr>
              <a:t>obbligato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a stipulare una polizza che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tenga indenne la stazione appaltante da tutti i </a:t>
            </a:r>
            <a:r>
              <a:rPr b="1" lang="it-IT" sz="2700" spc="-1" strike="noStrike">
                <a:solidFill>
                  <a:srgbClr val="604a7b"/>
                </a:solidFill>
                <a:latin typeface="Arial"/>
              </a:rPr>
              <a:t>rischi di esecuzione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(danneggiamento o distruzione di opere e impianti)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preveda una garanzia di </a:t>
            </a:r>
            <a:r>
              <a:rPr b="1" lang="it-IT" sz="2700" spc="-1" strike="noStrike">
                <a:solidFill>
                  <a:srgbClr val="604a7b"/>
                </a:solidFill>
                <a:latin typeface="Arial"/>
              </a:rPr>
              <a:t>responsabilità civile per danni a terzi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nell'esecuzione che sia valida sino all’emissione del certificato di collaudo o di regolare esecuzion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GESTIONE DEL CONTRA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0253f"/>
                </a:solidFill>
                <a:latin typeface="Arial"/>
              </a:rPr>
              <a:t>Modifiche del contratto (art. 10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e modifiche del contratto d’appalto sono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autorizzate dal RUP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 contratti possono essere modificati, nei casi seguenti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e le modifiche sono state previste nei documenti di gara iniziali in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clausole chiare, precise e inequivocabili</a:t>
            </a:r>
            <a:r>
              <a:rPr b="0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che possono comprendere anche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clausole di revisione dei prezzi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10253f"/>
                </a:solidFill>
                <a:latin typeface="Arial"/>
              </a:rPr>
              <a:t>art. 106 lett.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ratti di lavor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le variazioni di prezzo in aumento o in diminuzione possono essere valutate, sulla base dei prezziari dell’art.23 co.7, solo per l’eccedenza del 10% rispetto al prezzo originario e, comunque, in misura pari alla met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0253f"/>
                </a:solidFill>
                <a:latin typeface="Arial"/>
              </a:rPr>
              <a:t>Modifiche del contratto (art.10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lavori, servizi o forniture, supplementari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che si sono resi necessari e </a:t>
            </a:r>
            <a:r>
              <a:rPr b="0" lang="it-IT" sz="3000" spc="-1" strike="noStrike" u="sng">
                <a:solidFill>
                  <a:srgbClr val="000000"/>
                </a:solidFill>
                <a:uFillTx/>
                <a:latin typeface="Arial"/>
              </a:rPr>
              <a:t>non erano inclusi nell'appalto inizial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ove un cambiamento del contraente produca entrambi i seguenti effet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1) risulti impraticabile per motivi economici o tecnici, quali il rispetto dei requisiti di intercambiabilità o interoperabilità tra apparecchiature, servizi o impianti esistenti forniti nell'ambito dell'appalto iniziale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2) comporti notevoli “disguidi” o “una consistente duplicazione” dei cost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0253f"/>
                </a:solidFill>
                <a:latin typeface="Arial"/>
              </a:rPr>
              <a:t>Modifiche (art. 106 lett. c): </a:t>
            </a:r>
            <a:r>
              <a:rPr b="1" lang="it-IT" sz="4400" spc="-1" strike="noStrike" u="sng">
                <a:solidFill>
                  <a:srgbClr val="ff0000"/>
                </a:solidFill>
                <a:uFillTx/>
                <a:latin typeface="Arial"/>
              </a:rPr>
              <a:t>VARIA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Modifiche ammesse alle seguenti condizioni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 u="sng">
                <a:solidFill>
                  <a:srgbClr val="ff0000"/>
                </a:solidFill>
                <a:uFillTx/>
                <a:latin typeface="Arial"/>
              </a:rPr>
              <a:t>circostanze impreviste e imprevedibili 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nche la sopravvenienza di nuove disposizioni legislative o regolamentari o provvedimenti di autorità od enti preposti alla tutela di interessi rilevanti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la modifica non altera la natura generale del contratto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317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10253f"/>
                </a:solidFill>
                <a:latin typeface="Arial"/>
              </a:rPr>
              <a:t>Varianti lett. b) + c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applica il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comma 7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 settori ordinari il contratto può essere modificato se l'eventuale aumento di prezzo non eccede il 50% del valore del contratto inizi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caso di più modifiche successive, tale limitazione si applica al valore di ciascuna mod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Aggiudicazione (artt. 32 e 3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900" spc="-1" strike="noStrike">
                <a:solidFill>
                  <a:srgbClr val="ff0000"/>
                </a:solidFill>
                <a:latin typeface="Arial"/>
              </a:rPr>
              <a:t>Consiglio di Stato (sez. III, n. 467/2014) 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ha stabilito che la trasformazione dell’aggiudicazione provvisoria (oggi «proposta») in definitiva </a:t>
            </a:r>
            <a:r>
              <a:rPr b="1" lang="it-IT" sz="2900" spc="-1" strike="noStrike">
                <a:solidFill>
                  <a:srgbClr val="ff0000"/>
                </a:solidFill>
                <a:latin typeface="Arial"/>
              </a:rPr>
              <a:t>non è un obbligo della stazione appaltante, né un diritto dell’aggiudicatario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L’aggiudicatario ha 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900" spc="-1" strike="noStrike" u="sng">
                <a:solidFill>
                  <a:srgbClr val="000000"/>
                </a:solidFill>
                <a:uFillTx/>
                <a:latin typeface="Arial"/>
              </a:rPr>
              <a:t>un’aspettativa tutelata</a:t>
            </a:r>
            <a:r>
              <a:rPr b="1" lang="it-IT" sz="2900" spc="-1" strike="noStrike">
                <a:solidFill>
                  <a:srgbClr val="000000"/>
                </a:solidFill>
                <a:latin typeface="Arial"/>
              </a:rPr>
              <a:t> a che l’aggiudicazione provvisoria divenga definitiva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L’aggiudicazione definitiva può essere negata solo a condizione che ciò sia </a:t>
            </a:r>
            <a:r>
              <a:rPr b="1" lang="it-IT" sz="2900" spc="-1" strike="noStrike" u="sng">
                <a:solidFill>
                  <a:srgbClr val="000000"/>
                </a:solidFill>
                <a:uFillTx/>
                <a:latin typeface="Arial"/>
              </a:rPr>
              <a:t>deciso legittimamente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, nella forma e nella sostanz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10253f"/>
                </a:solidFill>
                <a:latin typeface="Arial"/>
              </a:rPr>
              <a:t>Modifiche (art. 106 lett. 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1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1" lang="it-IT" sz="2700" spc="-1" strike="noStrike" u="sng">
                <a:solidFill>
                  <a:srgbClr val="ff0000"/>
                </a:solidFill>
                <a:uFillTx/>
                <a:latin typeface="Arial"/>
              </a:rPr>
              <a:t>nuovo contraente sostituisce quello iniziale</a:t>
            </a:r>
            <a:r>
              <a:rPr b="1" lang="it-IT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per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1) clausola di revisione inequivocabile conforme alla lett.a) art.106 </a:t>
            </a:r>
            <a:r>
              <a:rPr b="1" lang="it-IT" sz="3100" spc="-1" strike="noStrike">
                <a:solidFill>
                  <a:srgbClr val="ff0000"/>
                </a:solidFill>
                <a:latin typeface="Arial"/>
              </a:rPr>
              <a:t>(?)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2) all'aggiudicatario succede, per causa di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morte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o per contratto, anche a seguito di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ristrutturazioni societarie, comprese rilevazioni, fusioni, scissioni, acquisizione o insolvenza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, un altro operatore economico che soddisfi i criteri di selezione qualitativ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3) nel caso in cui l'amministrazione aggiudicatrice si assuma gli obblighi del contraente principale nei confronti dei suoi subappaltatori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0253f"/>
                </a:solidFill>
                <a:latin typeface="Arial"/>
              </a:rPr>
              <a:t>Modifiche  “non sostanziali” (lett. 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900" spc="-1" strike="noStrike">
                <a:solidFill>
                  <a:srgbClr val="000000"/>
                </a:solidFill>
                <a:latin typeface="Arial"/>
              </a:rPr>
              <a:t>Se le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odifiche non sono sostanziali, le stazioni appaltanti possono stabilire nei documenti di gara soglie di importi per consentire le modifich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odifiche sostanziali (art. 106 co.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na modifica </a:t>
            </a:r>
            <a:r>
              <a:rPr b="1" lang="it-IT" sz="2600" spc="-1" strike="noStrike" u="sng">
                <a:solidFill>
                  <a:srgbClr val="000000"/>
                </a:solidFill>
                <a:uFillTx/>
                <a:latin typeface="Arial"/>
              </a:rPr>
              <a:t>è considerata sostanzial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) introduce condizioni che, se fossero state contenute nella procedura d'appalto iniziale,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vrebbero consentito l'ammissione di candidati diversi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(?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da quelli inizialmente selezionati o l'accettazione di un'offerta diversa da quella inizialmente accettata, oppure avrebbero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ttirato ulteriori partecipanti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la procedura di aggiudicazione; 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odifiche sostanziali (art. 106 co.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) la modific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cambia l'equilibrio economico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el contratto o dell'accordo quadro a favore dell'aggiudicatario in modo non previsto nel contratto inizial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) la modific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stende notevolmente l'ambito di applicazion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el contratto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) se un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nuovo contraent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ostituisce quello cui l'amministrazione aggiudicatrice o l’ente aggiudicatore aveva inizialmente aggiudicato l'appalto in casi diversi da quelli previsti al comma 1, lettera 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E le «varianti non varianti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36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0000"/>
                </a:solidFill>
                <a:latin typeface="Arial"/>
              </a:rPr>
              <a:t>Sono scomparse! Erano previste dall’art.132 co.3 d.lgs. 163/2006: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on sono considerati varianti gli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interventi disposti dal direttore dei lavori per risolvere aspetti di dettagli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che siano contenuti entro un importo non superiore al 10% per i lavori di bonifica e messa in sicurezza di siti contaminati,non superiore al 10% per i lavori di recupero, ristrutturazione, manutenzione e restauro e al 5% per tutti gli altri lavori delle categorie di lavoro dell'appalto e che non comportino un aumento dell'importo del contratto stipulato per la realizzazione dell'opera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onnettore diritto 2"/>
          <p:cNvSpPr/>
          <p:nvPr/>
        </p:nvSpPr>
        <p:spPr>
          <a:xfrm flipV="1">
            <a:off x="1332000" y="2565000"/>
            <a:ext cx="6769080" cy="302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E le varianti del «5%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Scomparse!  </a:t>
            </a:r>
            <a:r>
              <a:rPr b="1" lang="it-IT" sz="2900" spc="-1" strike="noStrike">
                <a:solidFill>
                  <a:srgbClr val="ff0000"/>
                </a:solidFill>
                <a:latin typeface="Arial"/>
              </a:rPr>
              <a:t>(art. 132 co. 3 d.lgs. 163/2006):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inoltre ammesse, nell'esclusivo interesse dell'amministrazione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varianti, in aumento o in diminuzione, finalizzate al miglioramento dell'opera e alla sua funzionalit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empreché non comportino modifiche sostanziali e siano motivate da obiettive esigenze derivanti da circostanze sopravvenute e imprevedibili al momento della stipula del contrat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importo in aumento relativo a tali varianti non può superare il 5% dell'importo originario del contratto e deve trovare copertura nella somma stanziata per l'esecuzione dell'opera al netto del 50% dei ribassi d’asta consegu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nettore diritto 2"/>
          <p:cNvSpPr/>
          <p:nvPr/>
        </p:nvSpPr>
        <p:spPr>
          <a:xfrm>
            <a:off x="1258920" y="2349360"/>
            <a:ext cx="6697800" cy="302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80089"/>
                </a:solidFill>
                <a:latin typeface="Arial"/>
              </a:rPr>
              <a:t>OGGI, modifiche del 10%-15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964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Le modifiche sono SEMPRE ammesse se il valore è inferiore ad entrambi i seguenti val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a) le 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soglie UE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(fissate dall’articolo 3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b) il 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10%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 del valore iniziale del contratto per servizi e forniture, il 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15%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 del valore iniziale del contratto per i lav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Modifiche da comunicare all’ANAC entro 30gg, 106 co.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880089"/>
                </a:solidFill>
                <a:latin typeface="Arial"/>
              </a:rPr>
              <a:t>modifiche del 10%-15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La modifica non può alterare la natura complessiva del contratto</a:t>
            </a: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o dell’accordo quad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In caso di più modifiche successive</a:t>
            </a: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il valore è accertato sulla base del valore complessivo 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al </a:t>
            </a: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netto delle successive modifiche</a:t>
            </a: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880089"/>
                </a:solidFill>
                <a:latin typeface="Arial"/>
              </a:rPr>
              <a:t>modifiche del 10%-15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36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Se la modifica deriva da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errori o da omissioni 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nel progetto esecutivo, che pregiudicano in tutto o in parte la realizzazione dell’opera o la sua utilizzazione, è consentita solo nel limite del 15%, ferma la responsabilità dei progettisti esterni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Modifiche entro 1/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.106 co.12: la stazione appaltante, qualora in corso di esecuzione si renda necessario una aumento o una diminuzione delle prestazioni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fino a concorrenza del quint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l'importo del contratto, </a:t>
            </a:r>
            <a:r>
              <a:rPr b="1" lang="it-IT" sz="4000" spc="-1" strike="noStrike" u="sng">
                <a:solidFill>
                  <a:srgbClr val="ff0000"/>
                </a:solidFill>
                <a:uFillTx/>
                <a:latin typeface="Arial"/>
              </a:rPr>
              <a:t>può imporr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l'appaltatore l'esecuzione alle stesse condizioni previste nel contratto originario. In tal caso, l'appaltatore non può far valere il diritto alla risoluzione del contrat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Aggiudicazione (artt. 32 e 3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360" y="1467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L'aggiudicazione definitiva non equivale ad accettazione dell'offerta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(art. 32 co. 6). Non esiste un vincolo contrattuale di “diritto privato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Consiglio di Stato (sez. VI, n. 4864/2010)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ha decretato che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è ancora possibile annullare d’ufficio l’aggiudicazione (definitiva)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rima che sia sottoscritto il contratto, purché ricorra un </a:t>
            </a:r>
            <a:r>
              <a:rPr b="1" lang="it-IT" sz="3000" spc="-1" strike="noStrike" u="sng">
                <a:solidFill>
                  <a:srgbClr val="000000"/>
                </a:solidFill>
                <a:uFillTx/>
                <a:latin typeface="Arial"/>
              </a:rPr>
              <a:t>preciso e concreto interesse pubblic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Stipulato il contratto si applica il codice civile (art. 30 co. 8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just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Pubblicità delle modifich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 commi 5, 8 e 14 dell’art.106 obbligano la stazione appaltante a pubblicizzare o comunicare alcune tipologie di modif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VVISO (art. 106 comma 5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amministrazioni che hanno modificato un </a:t>
            </a:r>
            <a:r>
              <a:rPr b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contratto sopra sogl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tt. b) prestazioni supplementar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tt. c) varianti per eventi imprevisti ed imprevedibil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ubblicano un </a:t>
            </a:r>
            <a:r>
              <a:rPr b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avvis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nella GU Unione europea (art. 106 co. 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VVISO (art. 106 comma 5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mpre nel caso di modifiche ex lettere b) e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per i contratti di importo inferiore alla soglia UE, la pubblicità avviene in ambito nazion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…com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unicazione 1 (art.106 co.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Per contratti </a:t>
            </a:r>
            <a:r>
              <a:rPr b="1" lang="it-IT" sz="3900" spc="-1" strike="noStrike" u="sng">
                <a:solidFill>
                  <a:srgbClr val="ff0000"/>
                </a:solidFill>
                <a:uFillTx/>
                <a:latin typeface="Arial"/>
              </a:rPr>
              <a:t>sotto soglia</a:t>
            </a: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300" spc="-1" strike="noStrike" u="sng">
                <a:solidFill>
                  <a:srgbClr val="000000"/>
                </a:solidFill>
                <a:uFillTx/>
                <a:latin typeface="Arial"/>
              </a:rPr>
              <a:t>TUTTE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 le varianti per eventi imprevisti ed imprevedibili (lett. c) di lavori, servizi e forniture,</a:t>
            </a: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 sono 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comunicate dal RUP all'Osservatorio</a:t>
            </a: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tramite le sezioni regionali, entro 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trenta giorni </a:t>
            </a: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dall'approvazione da parte della stazione appaltante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unicazione 2 (art. 106 co.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0000"/>
                </a:solidFill>
                <a:uFillTx/>
                <a:latin typeface="Arial"/>
              </a:rPr>
              <a:t>Contratti pari o superiori alla soglia </a:t>
            </a:r>
            <a:r>
              <a:rPr b="1" lang="it-IT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Le varianti lett. c), inferiori o pari al 10% dell’importo originario del contratto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municate dal RUP all'Osservator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tramite le sezioni regional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ntro trenta giorni dall'approvazione da parte della stazione appal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unicazione 3 (art. 106 co.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36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ff0000"/>
                </a:solidFill>
                <a:uFillTx/>
                <a:latin typeface="Arial"/>
              </a:rPr>
              <a:t>Contratti pari o superiori alla soglia </a:t>
            </a:r>
            <a:r>
              <a:rPr b="1" lang="it-IT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varianti per eventi imprevisti e imprevedibili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(lett. c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ccedenti il 10%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ono trasmesse </a:t>
            </a:r>
            <a:r>
              <a:rPr b="1" lang="it-IT" sz="3900" spc="-1" strike="noStrike" u="sng">
                <a:solidFill>
                  <a:srgbClr val="ff0000"/>
                </a:solidFill>
                <a:uFillTx/>
                <a:latin typeface="Arial"/>
              </a:rPr>
              <a:t>all'ANAC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con progetto esecutivo, atto di validazione,  una apposita relazione, </a:t>
            </a:r>
            <a:r>
              <a:rPr b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entro trenta giorni dall'approvazione.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l'ANAC ne accerta l'illegittimità esercita i poteri di cui all’art. 213.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caso di inadempimento: sanzioni pecuniari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omunicazione 4 (art. 106 co.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SEMPRE (sia sotto, che sopra soglia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obbligo di comunicare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all’ANAC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entro trenta giorni le modifiche pe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lett. b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) prestazioni supplementari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comma 2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) le modifiche del 10%-15% ex art.106 co.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n caso di mancata o tardiva comunicazione l’Autorità irroga una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anzione al RUP: </a:t>
            </a:r>
            <a:r>
              <a:rPr b="1" lang="it-IT" sz="3000" spc="-1" strike="noStrike" u="sng">
                <a:solidFill>
                  <a:srgbClr val="000000"/>
                </a:solidFill>
                <a:uFillTx/>
                <a:latin typeface="Arial"/>
              </a:rPr>
              <a:t>50-200 euro per giorno di ritard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Grazie per l’attenzione e buon lavor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Aggiudicazione effic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L’art. 32 co. 7 del codice dispone ancora che l’aggiudicazione divenga efficace solo “dopo la verifica dei prescritti requisiti”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Arial"/>
              </a:rPr>
              <a:t>Sino a quando non è concluso il processo di verifica dei requisiti, l’aggiudicazione è priva di effetti giuridici. </a:t>
            </a:r>
            <a:br>
              <a:rPr sz="17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Aggiudicazione effic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900" spc="-1" strike="noStrike">
                <a:solidFill>
                  <a:srgbClr val="000000"/>
                </a:solidFill>
                <a:latin typeface="Arial"/>
              </a:rPr>
              <a:t>L’art. 36 co. 5, prevede che nel caso di procedure negoziate, la verifica dei requisiti avvenga esclusivamente sull'aggiudicatario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900" spc="-1" strike="noStrike">
                <a:solidFill>
                  <a:srgbClr val="000000"/>
                </a:solidFill>
                <a:latin typeface="Arial"/>
              </a:rPr>
              <a:t>La stazione appaltante può comunque estendere le verifiche agli altri partecipanti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5:44:14Z</dcterms:created>
  <dc:creator>omar gozzoli</dc:creator>
  <dc:description/>
  <dc:language>en-US</dc:language>
  <cp:lastModifiedBy>Segretario Comunale - Comune di Roncadelle</cp:lastModifiedBy>
  <cp:lastPrinted>2014-01-28T11:27:24Z</cp:lastPrinted>
  <dcterms:modified xsi:type="dcterms:W3CDTF">2019-03-21T10:21:28Z</dcterms:modified>
  <cp:revision>1333</cp:revision>
  <dc:subject/>
  <dc:title>Ordinamento finanziario e contabile</dc:title>
</cp:coreProperties>
</file>