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16368-50C2-4141-BAD2-3311F95FD26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Segnaposto numero diapositiva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6E4EC-748D-4E48-98EA-FC3B7EFFA28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Segnaposto numero diapositiva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E8F2A-55BF-4C55-9806-13876C94375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ECF6-CE7A-4E96-9E11-93936E469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6FE2-86FD-4D1D-B369-FABE8E2EC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ADE1-B83B-479B-A4CB-04D192DE7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DB21-E455-4E63-A784-32B078BCB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D48D-4F28-44DB-8DF1-31FF0E15F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6A5F-4AB3-4C04-A752-1BB834A56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35D6-DB35-491D-BBBB-B0DBD9C4F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77E8-303F-4C7F-B365-5CFA9471D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2BE2-BFED-4841-985E-68FE961B7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624F-9FDF-41DB-B7F6-6BA6A41A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23DD-E42D-4942-BAF7-09253D6F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A56E-3F95-47D9-ACB2-C339C3C0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78835-639E-4BE4-B19F-67CABA6A36D8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6920" y="2781000"/>
            <a:ext cx="7772400" cy="324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2060"/>
                </a:solidFill>
                <a:latin typeface="Arial"/>
              </a:rPr>
              <a:t>Aggiornamento pratico operativo sulle gare d’appalto</a:t>
            </a:r>
            <a:br>
              <a:rPr sz="4400"/>
            </a:br>
            <a:br>
              <a:rPr sz="32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7030a0"/>
                </a:solidFill>
                <a:latin typeface="Arial"/>
              </a:rPr>
              <a:t>Articolo 11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’art. 1, comma 526, della legge 205/2017 (legge di bilancio 2018): il finanziamento del fondo per gli incentivi tecnici grava sul medesimo capitolo di spesa previsto per i singoli lavori, servizi o forniture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l nuovo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comma 5-bis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ell’art. 113: “gli incentivi di cui al presente articolo fanno capo al medesimo capitolo di spesa previsto per i singoli lavori, servizi e forniture”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600" spc="-1" strike="noStrike">
                <a:solidFill>
                  <a:srgbClr val="7030a0"/>
                </a:solidFill>
                <a:latin typeface="Arial"/>
              </a:rPr>
              <a:t>Corte dei conti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7030a0"/>
                </a:solidFill>
                <a:latin typeface="Arial"/>
              </a:rPr>
              <a:t>Sezione delle Autonomie, delib.6 del 26/4/2018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Gli incentivi disciplinati dall’art.113 del d.lgs.  50/2016, nel testo modificato dall’art.1 co.526 L.205/2017, erogati su risorse finanziarie individuate ex lege facenti capo agli stessi capitoli sui quali gravano gli oneri per i singoli lavori, servizi e forniture, </a:t>
            </a:r>
            <a:r>
              <a:rPr b="1" lang="it-IT" sz="3600" spc="-1" strike="noStrike">
                <a:solidFill>
                  <a:srgbClr val="7030a0"/>
                </a:solidFill>
                <a:latin typeface="Arial"/>
              </a:rPr>
              <a:t>non sono soggetti al vincolo</a:t>
            </a:r>
            <a:r>
              <a:rPr b="1" lang="it-IT" sz="32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osto al complessivo trattamento economico accessorio dei dipendenti degli enti pubblici dall’art.23 co.2 del d.lgs75/2017”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600" spc="-1" strike="noStrike">
                <a:solidFill>
                  <a:srgbClr val="7030a0"/>
                </a:solidFill>
                <a:latin typeface="Arial"/>
              </a:rPr>
              <a:t>Corte dei conti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7030a0"/>
                </a:solidFill>
                <a:latin typeface="Arial"/>
              </a:rPr>
              <a:t>Lombardia 258/2018, Lazio 57/2018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’esclusione dell’incentivo ex art. 113 dal limite, inizia ad applicarsi ai contratti pubblici il cui progetto sia stato approvato ed inserito nei documenti di programmazi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u="sng">
                <a:solidFill>
                  <a:srgbClr val="000000"/>
                </a:solidFill>
                <a:uFillTx/>
                <a:latin typeface="Arial"/>
              </a:rPr>
              <a:t>dopo il 1° gennaio 2018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7030a0"/>
                </a:solidFill>
                <a:uFillTx/>
                <a:latin typeface="Arial"/>
              </a:rPr>
              <a:t>NB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. la Corte conti Veneto, invece, ha autorizzato anche la distribuzione delle somme accantonate prima (n. 429/20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7030a0"/>
                </a:solidFill>
                <a:latin typeface="Arial"/>
              </a:rPr>
              <a:t>Corte dei conti Veneto n.455/2018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’ente deve avere adottato idoneo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regolamento,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il quale dovrà prevedere tra l’altro la delimitazione del concetto di “collaboratore” in stretto collegamento funzionale alle attività da svolgere nell’ambito dei singoli procedimen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e risorse finanziarie del fondo costituito ai sensi dell’art. 113 co.2 dovranno essere ripartite, per ciascuna opera/lavoro, servizio e fornitura con le modalità e i criteri previsti in sede di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ntrattazione decentrat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disposizione di cui all’art.113 co.2 si applica agli appalti relativi a </a:t>
            </a:r>
            <a:r>
              <a:rPr b="1" lang="it-IT" sz="2400" spc="-1" strike="noStrike">
                <a:solidFill>
                  <a:srgbClr val="7030a0"/>
                </a:solidFill>
                <a:latin typeface="Arial"/>
              </a:rPr>
              <a:t>servizi o forniture esclusivamente nel caso in cui sia stato nominato il direttore dell'esecuzion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7030a0"/>
                </a:solidFill>
                <a:latin typeface="Arial"/>
              </a:rPr>
              <a:t>Direttore dell’esecuzione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Art. 101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– L’esecuzione dei contratti aventi ad oggetto lavori, servizi, forniture, è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diretta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dal responsabile unico del procedimento, che controlla i livelli di qualità delle prestazion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LG3 par.10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- Il responsabile del procedimento svolge, nei limiti delle proprie competenze professionali, anche le funzioni di progettista e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direttore dell’esecuzion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del contratt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7030a0"/>
                </a:solidFill>
                <a:latin typeface="Arial"/>
              </a:rPr>
              <a:t>Direttore dell’esecuzione (LG 3 par.10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836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direttore dell’esecuzion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del contratto è soggetto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diverso dal RUP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nei seguenti casi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restazioni di importo superiore a 500.000 eur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terventi particolarmente complessi sotto il profilo tecnologico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estazioni che richiedono l’apporto di una pluralità di competenze (es. servizi a supporto della funzionalità delle strutture sanitarie che comprendono trasporto, pulizie, ristorazione, sterilizzazione, vigilanza, socio sanitario, supporto informatico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terventi caratterizzati dall’utilizzo di componenti o di processi produttivi innovativi o dalla necessità di elevate prestazioni per quanto riguarda la loro funzionalità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er ragioni concernente l’organizzazione interna alla stazione appaltante, che impongano il coinvolgimento di unità organizzativa diversa da quella cui afferiscono i soggetti che hanno curato l’affidament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7030a0"/>
                </a:solidFill>
                <a:latin typeface="Arial"/>
              </a:rPr>
              <a:t>Corte dei conti, Sez. Autonomie, n. 2/201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’incentivo può essere riconosciuto anche per «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appalti di manutenzione straordinaria e ordinaria di particolare complessità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ono appalti che richiedono «attività di programmazione della spesa, di valutazione del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progetto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e di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controllo delle procedure di gara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e dell’esecuzione del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contratto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rispetto ai termini dei documenti di gara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7030a0"/>
                </a:solidFill>
                <a:latin typeface="Arial"/>
              </a:rPr>
              <a:t>Corte dei conti Puglia, n. 162/2018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Ok all’incentiv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anche per il personale che redige una perizia di variante con aumento dell’importo dei lavor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(ovviamente, conformemente all’art.1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Arial"/>
              </a:rPr>
              <a:t>PROGRAMM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7030a0"/>
                </a:solidFill>
                <a:latin typeface="Arial"/>
              </a:rPr>
              <a:t>Programmazione art.2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0" spc="-1" strike="noStrike">
                <a:solidFill>
                  <a:srgbClr val="7030a0"/>
                </a:solidFill>
                <a:latin typeface="Arial"/>
              </a:rPr>
              <a:t>DM 16.1.2018 n.14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7030a0"/>
                </a:solidFill>
                <a:latin typeface="Arial"/>
              </a:rPr>
              <a:t>(GU 9/3/2018 in vigore dal 24/3/2018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programma biennale degli acquisti di beni e servizi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programma triennale dei lavori pubblici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aggiornamenti annuali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89598a"/>
                </a:solidFill>
                <a:latin typeface="Arial"/>
              </a:rPr>
              <a:t>Linee guida queste sconosciut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Secondo il Consiglio di Stato le linee guida dell’ANAC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non hanno valenza normativa, ma sono atti amministrativi generali appartenenti al </a:t>
            </a:r>
            <a:r>
              <a:rPr b="0" i="1" lang="it-IT" sz="3600" spc="-1" strike="noStrike">
                <a:solidFill>
                  <a:srgbClr val="000000"/>
                </a:solidFill>
                <a:latin typeface="Arial"/>
              </a:rPr>
              <a:t>genus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degl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atti di regolazione della autorità amministrative indipendenti”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600" spc="-1" strike="noStrike">
                <a:solidFill>
                  <a:srgbClr val="7030a0"/>
                </a:solidFill>
                <a:latin typeface="Arial"/>
              </a:rPr>
              <a:t>Definizioni art.3:</a:t>
            </a:r>
            <a:r>
              <a:rPr b="0" lang="it-IT" sz="44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436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rogramma biennale degli acquisti di beni e serviz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 il documento che le amministrazioni adottano al fine di individuare gli acquisti di forniture e servizi da disporre nel biennio, necessari al soddisfacimento dei fabbisogni rilevati e valutati dall’amministrazione prepos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elenco annuale delle acquisizioni di forniture e serviz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 l’elenco delle acquisizioni di forniture e dei servizi ricompresi nel programma biennale di riferimento, da avviare nel corso della prima annualità del programma stes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rogramma triennale dei lavori pubblic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 il documento che le amministrazioni adottano al fine di individuare i lavori da avviare nel triennio, necessari al soddisfacimento dei fabbisogni rilevati e valutati dall’amministrazione prepos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elenco annuale dei lavor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 l’elenco degli interventi ricompresi nel programma triennale dei lavori pubblici di riferimento, da avviare nel corso della prima annualità del programma stess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7030a0"/>
                </a:solidFill>
                <a:latin typeface="Arial"/>
              </a:rPr>
              <a:t>Programm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7030a0"/>
                </a:solidFill>
                <a:latin typeface="Arial"/>
              </a:rPr>
              <a:t>Comma </a:t>
            </a:r>
            <a:r>
              <a:rPr b="1" lang="it-IT" sz="3200" spc="-1" strike="noStrike">
                <a:solidFill>
                  <a:srgbClr val="7030a0"/>
                </a:solidFill>
                <a:latin typeface="Arial"/>
              </a:rPr>
              <a:t>424</a:t>
            </a:r>
            <a:r>
              <a:rPr b="0" lang="it-IT" sz="3200" spc="-1" strike="noStrike">
                <a:solidFill>
                  <a:srgbClr val="7030a0"/>
                </a:solidFill>
                <a:latin typeface="Arial"/>
              </a:rPr>
              <a:t> della </a:t>
            </a:r>
            <a:r>
              <a:rPr b="1" lang="it-IT" sz="3200" spc="-1" strike="noStrike">
                <a:solidFill>
                  <a:srgbClr val="7030a0"/>
                </a:solidFill>
                <a:latin typeface="Arial"/>
              </a:rPr>
              <a:t>legge 232/2016</a:t>
            </a:r>
            <a:r>
              <a:rPr b="0" lang="it-IT" sz="3200" spc="-1" strike="noStrike">
                <a:solidFill>
                  <a:srgbClr val="7030a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'obbligo di approvazione del programma biennale degli acquisti di beni e servizi, di cui all’art. 21 del d.lgs. 50/2016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0000"/>
                </a:solidFill>
                <a:uFillTx/>
                <a:latin typeface="Arial"/>
              </a:rPr>
              <a:t>si applica a decorrere dal bilancio di previsione per l'esercizio 2018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89598a"/>
                </a:solidFill>
                <a:latin typeface="Arial"/>
              </a:rPr>
              <a:t>Programmazio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l comma 505 della legge 208/2015 NON è più vigente (abrogato dall’art. 217 come modificato dal correttivo)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a programmazione biennale, per acquisti di almeno 1 milione, entro il mese di ottobre di ciascun ann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Connettore diritto 2"/>
          <p:cNvSpPr/>
          <p:nvPr/>
        </p:nvSpPr>
        <p:spPr>
          <a:xfrm>
            <a:off x="1763640" y="3284640"/>
            <a:ext cx="4176720" cy="1368360"/>
          </a:xfrm>
          <a:prstGeom prst="line">
            <a:avLst/>
          </a:prstGeom>
          <a:ln w="42480">
            <a:solidFill>
              <a:srgbClr val="5f0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Connettore diritto 4"/>
          <p:cNvSpPr/>
          <p:nvPr/>
        </p:nvSpPr>
        <p:spPr>
          <a:xfrm flipV="1">
            <a:off x="1979640" y="3284280"/>
            <a:ext cx="4032360" cy="1584360"/>
          </a:xfrm>
          <a:prstGeom prst="line">
            <a:avLst/>
          </a:prstGeom>
          <a:ln w="42480">
            <a:solidFill>
              <a:srgbClr val="5f0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7030a0"/>
                </a:solidFill>
                <a:latin typeface="Arial"/>
              </a:rPr>
              <a:t>Programmazione art. 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econdo l’art. 21 co. 8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n il </a:t>
            </a:r>
            <a:r>
              <a:rPr b="1" lang="it-IT" sz="3200" spc="-1" strike="noStrike">
                <a:solidFill>
                  <a:srgbClr val="7030a0"/>
                </a:solidFill>
                <a:latin typeface="Arial"/>
              </a:rPr>
              <a:t>DM 14/2018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el Ministro delle infrastrutture sono definiti (tra l’altro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gli </a:t>
            </a: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schemi tipo</a:t>
            </a: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 le informazioni minime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ei documenti di programmazion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200" spc="-1" strike="noStrike">
                <a:solidFill>
                  <a:srgbClr val="7030a0"/>
                </a:solidFill>
                <a:latin typeface="Arial"/>
              </a:rPr>
              <a:t>DM 16/1/2018 n.1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8360" y="170028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7030a0"/>
                </a:solidFill>
                <a:latin typeface="Arial"/>
              </a:rPr>
              <a:t>Art. 5 - LAVORI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adozione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pubblicazione (per quanto tempo?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presentazione di eventuali osservazioni, entro 30 giorni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approvazione entro 60 giorni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000000"/>
                </a:solidFill>
                <a:latin typeface="Arial"/>
              </a:rPr>
              <a:t>DM 16/1/2018 n.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95280" y="177336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Arial"/>
              </a:rPr>
              <a:t>Articolo 5 co. 6 – Lavor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gli enti locali approvano il programma  entro 90 giorni dalla data di decorrenza degli effetti del proprio bilanci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it-IT" sz="3600" spc="-1" strike="noStrike">
                <a:solidFill>
                  <a:srgbClr val="ff0000"/>
                </a:solidFill>
                <a:latin typeface="Arial"/>
              </a:rPr>
              <a:t>Resta fermo l’art.172 del TUEL”. Articolo che non c’entra proprio nulla. Boh!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7030a0"/>
                </a:solidFill>
                <a:latin typeface="Arial"/>
              </a:rPr>
              <a:t>DM 16/1/2018 n.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95280" y="177336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Art. 7 – Forniture e servizi: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La norma non prevede adozione e pubblicazione, soltanto l’approvazion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Gli enti locali approvano il programma  entro 90 giorni dalla data di decorrenza degli effetti del proprio bilancio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0000"/>
                </a:solidFill>
                <a:latin typeface="Arial"/>
              </a:rPr>
              <a:t>Resta fermo l’art. 172 del TUEL (??)”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000000"/>
                </a:solidFill>
                <a:latin typeface="Arial"/>
              </a:rPr>
              <a:t>DM 16/1/2018 n.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5280" y="177336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L’art. 21 co. 1 del Codice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dispone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l’approvazione dei programm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secondo le norme che disciplinano la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programmazione economico finanziaria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”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Arial"/>
              </a:rPr>
              <a:t>Le norme del DUP o quelle del solo BILANCI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000000"/>
                </a:solidFill>
                <a:latin typeface="Arial"/>
              </a:rPr>
              <a:t>DUP art.170 TUEL: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95280" y="177336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31 luglio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: la giunta presenta al consiglio il DUP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15 novembre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: la giunta presenta al consiglio la nota di aggiornamento del DUP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31 dicembre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: approvazione del bilancio previsiona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UC E QUALIFICAZION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89598a"/>
                </a:solidFill>
                <a:latin typeface="Arial"/>
              </a:rPr>
              <a:t>Linee guida dell’ANA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TAR Abruzzo, Pescara, n. 125 del 26/1/2018: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l’eventuale scostamento dalle indicazioni espresse dall’ANAC, senza adeguata motivazione, si configura come vizio di legittimità per eccesso di poter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icolo 37 del Codice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8360" y="141300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enza “qualificazione”,  le stazioni appaltanti possono procedere autonomamente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ll’acquisto di forniture e servizi fino a 40.000 euro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ll’acquisto di lavori fino a 150.000 eur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ffettuando ordini a valere su strumenti di acquisto messi a disposizione dalle centrali di committenza 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e dai soggetti aggregatori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(per qualsiasi importo!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ticolo 216 comma 10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Fino alla data di entrata in vigore del sistema di qualificazione ex art. 38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è sufficiente 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l'iscrizione all’Anagrafe Unica delle Stazioni Appaltanti </a:t>
            </a: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(art. 33-ter del DL 179/2012).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Le stazioni appaltanti di contratti pubblici di lavori, servizi e forniture hanno l'obbligo di richiedere l'iscrizione all'Anagrafe unica presso la Banca dati nazionale dei contratti pubblici istituita ai sensi dell’art. 62-bis del d.lgs. 82/2005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ticolo 37 comma 2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e stazioni appaltanti iscritte </a:t>
            </a:r>
            <a:r>
              <a:rPr b="1" lang="it-IT" sz="2800" spc="-1" strike="noStrike" u="sng">
                <a:solidFill>
                  <a:srgbClr val="ff0000"/>
                </a:solidFill>
                <a:uFillTx/>
                <a:latin typeface="Arial"/>
              </a:rPr>
              <a:t>AUSA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possono procedere </a:t>
            </a:r>
            <a:r>
              <a:rPr b="1" lang="it-IT" sz="2800" spc="-1" strike="noStrike" u="sng">
                <a:solidFill>
                  <a:srgbClr val="ff0000"/>
                </a:solidFill>
                <a:uFillTx/>
                <a:latin typeface="Arial"/>
              </a:rPr>
              <a:t>mediante ricorso autonomo agli strumenti telematici di negoziazione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messi a disposizione dalle centrali di committenza qualificate per acquisti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i forniture e servizi di importo superiore a 40.000 euro e inferiore alla soglia U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i lavori di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manutenzione ordinaria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'importo superiore a 150.000 euro e inferiore a 1.000.000 di euro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scritto all’AUSA: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acquista beni e servizi fino a soglia con strumenti telematici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(&gt;1000 euro)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acquista lavori fino a 150m euro anche senza strumenti telematici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acquista lavori di manutenzione fino a 1mln con gli strumenti telematici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inoltra ordini sugli strumenti d’acquisto elettronici (Consip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mune non iscritto AUS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singolo comune non capoluogo acquist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beni e servizi fino a 40.000 euro (&gt;1.000 euro con strumenti telematici co. 450 legge 296/2006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cquista lavori fino a 150.000 euro (anche senza strumenti telematici);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noltra ordini sugli strumenti d’acquisto elettronici (convenzioni Consip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’ANAC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Arial"/>
              </a:rPr>
              <a:t>FAQ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ul periodo transitorio (</a:t>
            </a:r>
            <a:r>
              <a:rPr b="1" lang="it-IT" sz="2800" spc="-1" strike="noStrike" u="sng">
                <a:solidFill>
                  <a:srgbClr val="000000"/>
                </a:solidFill>
                <a:uFillTx/>
                <a:latin typeface="Arial"/>
              </a:rPr>
              <a:t>13 giugno 2016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), se il singolo comune è iscritto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AUSA,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cquista </a:t>
            </a:r>
            <a:r>
              <a:rPr b="1" lang="it-IT" sz="2800" spc="-1" strike="noStrike" u="sng">
                <a:solidFill>
                  <a:srgbClr val="ff0000"/>
                </a:solidFill>
                <a:uFillTx/>
                <a:latin typeface="Arial"/>
              </a:rPr>
              <a:t>IN AUTONOMIA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beni e servizi fino a soglia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(209-750m eur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lavori di manutenzione ORDINARIA fino al mili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ma solo con gli strumenti telematici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messi a disposizione da «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centrali di committenza qualificat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’ANAC rilascia il CI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icolo 37 comma 4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0" lang="it-IT" sz="3600" spc="-1" strike="noStrike" u="sng">
                <a:solidFill>
                  <a:srgbClr val="000000"/>
                </a:solidFill>
                <a:uFillTx/>
                <a:latin typeface="Arial"/>
              </a:rPr>
              <a:t>comune</a:t>
            </a: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, non capoluogo di provincia, “</a:t>
            </a:r>
            <a:r>
              <a:rPr b="1" lang="it-IT" sz="2700" spc="-1" strike="noStrike">
                <a:solidFill>
                  <a:srgbClr val="7030a0"/>
                </a:solidFill>
                <a:latin typeface="Arial"/>
              </a:rPr>
              <a:t>fermo restando quanto previsto al comma 1 e al primo periodo del comma 2”, </a:t>
            </a: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acquista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ricorrendo a una </a:t>
            </a:r>
            <a:r>
              <a:rPr b="1" lang="it-IT" sz="2700" spc="-1" strike="noStrike">
                <a:solidFill>
                  <a:srgbClr val="000000"/>
                </a:solidFill>
                <a:latin typeface="Arial"/>
              </a:rPr>
              <a:t>centrale di committenza </a:t>
            </a: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o a </a:t>
            </a:r>
            <a:r>
              <a:rPr b="1" lang="it-IT" sz="2700" spc="-1" strike="noStrike">
                <a:solidFill>
                  <a:srgbClr val="000000"/>
                </a:solidFill>
                <a:latin typeface="Arial"/>
              </a:rPr>
              <a:t>soggetti aggregatori </a:t>
            </a: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qualificati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mediante </a:t>
            </a:r>
            <a:r>
              <a:rPr b="1" lang="it-IT" sz="2700" spc="-1" strike="noStrike" u="sng">
                <a:solidFill>
                  <a:srgbClr val="7030a0"/>
                </a:solidFill>
                <a:uFillTx/>
                <a:latin typeface="Arial"/>
              </a:rPr>
              <a:t>unioni di comuni </a:t>
            </a: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qualificate come centrali di committenza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700" spc="-1" strike="noStrike" u="sng">
                <a:solidFill>
                  <a:srgbClr val="7030a0"/>
                </a:solidFill>
                <a:uFillTx/>
                <a:latin typeface="Arial"/>
              </a:rPr>
              <a:t>associandosi o consorziandosi in centrali di committenza</a:t>
            </a: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ricorrendo alla stazione unica appaltante costituita presso gli enti di </a:t>
            </a:r>
            <a:r>
              <a:rPr b="1" lang="it-IT" sz="2700" spc="-1" strike="noStrike">
                <a:solidFill>
                  <a:srgbClr val="7030a0"/>
                </a:solidFill>
                <a:latin typeface="Arial"/>
              </a:rPr>
              <a:t>area vasta </a:t>
            </a: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(legge 56/2014)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CUC sovracomunale per: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beni e servizi sopra soglia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lavori oltre a 150m euro se nuove opere o manutenzioni straordinari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lavori di manutenzione ordinaria oltre 1mln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RCA Lombardia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È soggetto aggregato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(ANAC determinazione 58/2015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’ centrale di committenza e stazione unica appaltan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qualificazione delle stazioni appalta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24000" y="141300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rt. 38 - E’ istituito presso l'ANAC l’</a:t>
            </a:r>
            <a:r>
              <a:rPr b="1" lang="it-IT" sz="3200" spc="-1" strike="noStrike" u="sng">
                <a:solidFill>
                  <a:srgbClr val="000000"/>
                </a:solidFill>
                <a:uFillTx/>
                <a:latin typeface="Arial"/>
              </a:rPr>
              <a:t>elenco delle stazioni appaltanti qualificat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 qualificazione è conseguita in rapporto 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bacini territoriali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tipologia e complessità del contrat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 per fasce d'import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6920" y="2781000"/>
            <a:ext cx="7772400" cy="324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2060"/>
                </a:solidFill>
                <a:latin typeface="Arial"/>
              </a:rPr>
              <a:t>Incentivi ex art. 117</a:t>
            </a:r>
            <a:br>
              <a:rPr sz="32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icolo 38 comm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95280" y="134100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Con </a:t>
            </a: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DPCM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(90 gg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saranno definiti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i requisiti tecnico organizzativi per l'iscrizione all'elenco delle stazioni appaltanti qualific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PROBLEMA!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24000" y="134100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Arial"/>
              </a:rPr>
              <a:t>Ma quali sono le procedure ordinari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Non esiste un solo articol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del Codice che indichi quali siano!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PROBLEMA!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24000" y="134100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300" spc="-1" strike="noStrike">
                <a:solidFill>
                  <a:srgbClr val="000000"/>
                </a:solidFill>
                <a:latin typeface="Arial"/>
              </a:rPr>
              <a:t>Art. 95 co. 4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300" spc="-1" strike="noStrike">
                <a:solidFill>
                  <a:srgbClr val="000000"/>
                </a:solidFill>
                <a:latin typeface="Arial"/>
              </a:rPr>
              <a:t>consente di affidare lavori fino a 2mln utilizzando il criterio del «minor prezzo» quando l’affidamento avvenga con «</a:t>
            </a:r>
            <a:r>
              <a:rPr b="1" lang="it-IT" sz="4300" spc="-1" strike="noStrike">
                <a:solidFill>
                  <a:srgbClr val="000000"/>
                </a:solidFill>
                <a:latin typeface="Arial"/>
              </a:rPr>
              <a:t>procedure ordinarie</a:t>
            </a:r>
            <a:r>
              <a:rPr b="0" lang="it-IT" sz="43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SOLUZION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24000" y="134100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MIT: richiesta di parere all’ANAC del 13/6/2017 n. 2358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u="sng">
                <a:solidFill>
                  <a:srgbClr val="002060"/>
                </a:solidFill>
                <a:uFillTx/>
                <a:latin typeface="Arial"/>
              </a:rPr>
              <a:t>ANAC «parere» del 23/6/2017 n. 84346</a:t>
            </a:r>
            <a:r>
              <a:rPr b="0" lang="it-IT" sz="36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0000"/>
                </a:solidFill>
                <a:latin typeface="Arial"/>
              </a:rPr>
              <a:t>E’ possibile applicare il criterio del minor prezzo alle procedure negoziate dell’art.36 per lavori fino a1ml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Grazie per l’attenzione e buon lavoro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7030a0"/>
                </a:solidFill>
                <a:latin typeface="Arial"/>
              </a:rPr>
              <a:t>Articolo 11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 valere sugli stanziamenti dei singoli appalti, le amministrazioni destinano a un </a:t>
            </a:r>
            <a:r>
              <a:rPr b="1" lang="it-IT" sz="3200" spc="-1" strike="noStrike" u="sng">
                <a:solidFill>
                  <a:srgbClr val="000000"/>
                </a:solidFill>
                <a:uFillTx/>
                <a:latin typeface="Arial"/>
              </a:rPr>
              <a:t>fond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risorse finanziarie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n misura non superiore al </a:t>
            </a: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2%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modulate sull'importo dei lavori, servizi e forniture, 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posti a base di gar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per le </a:t>
            </a:r>
            <a:r>
              <a:rPr b="1" lang="it-IT" sz="3200" spc="-1" strike="noStrike" u="sng">
                <a:solidFill>
                  <a:srgbClr val="000000"/>
                </a:solidFill>
                <a:uFillTx/>
                <a:latin typeface="Arial"/>
              </a:rPr>
              <a:t>funzioni tecnich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svolte dai dipendenti delle stes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7030a0"/>
                </a:solidFill>
                <a:latin typeface="Arial"/>
              </a:rPr>
              <a:t>Articolo 11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Arial"/>
              </a:rPr>
              <a:t>Funzioni tecnich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ogrammazione della spesa per investiment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valutazione preventiva dei progett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edisposizione e controllo delle procedure di gara e di esecuzione dei contratt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UP, direzione dei lavori e direzione dell'esecuzion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llaudo e di verifica di conformità, di collaudatore stati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7030a0"/>
                </a:solidFill>
                <a:latin typeface="Arial"/>
              </a:rPr>
              <a:t>Articolo 11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L‘80%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delle risorse è ripartito, per ciascuna opera o lavoro, servizio, fornitu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on le modalità e i criteri previsti in sede di </a:t>
            </a:r>
            <a:r>
              <a:rPr b="1" lang="it-IT" sz="2800" spc="-1" strike="noStrike" u="sng">
                <a:solidFill>
                  <a:srgbClr val="000000"/>
                </a:solidFill>
                <a:uFillTx/>
                <a:latin typeface="Arial"/>
              </a:rPr>
              <a:t>contrattazione decentrata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ulla base di apposito </a:t>
            </a:r>
            <a:r>
              <a:rPr b="1" lang="it-IT" sz="2800" spc="-1" strike="noStrike" u="sng">
                <a:solidFill>
                  <a:srgbClr val="000000"/>
                </a:solidFill>
                <a:uFillTx/>
                <a:latin typeface="Arial"/>
              </a:rPr>
              <a:t>regolamento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tra il RUP, i soggetti che svolgono le funzioni tecniche e i loro collaborator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7030a0"/>
                </a:solidFill>
                <a:latin typeface="Arial"/>
              </a:rPr>
              <a:t>Articolo 11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8360" y="134100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’incentivo è riconosciuto solo per affidamenti con “gara”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'amministrazione stabilisce i criteri e le modalità per la riduzione delle risorse finanziarie connesse alla singola opera o lavoro a fronte di eventuali incrementi dei tempi o dei costi non conformi alle norme del Codi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li importi sono «lordi» e comprensivi anche degli oneri previdenziali e assistenziali a carico dell'amministrazio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corresponsione dell'incentivo è disposta dal dirigente o dal responsabile di servizio preposto alla struttura competen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7030a0"/>
                </a:solidFill>
                <a:latin typeface="Arial"/>
              </a:rPr>
              <a:t>Articolo 11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li incentivi corrisposti nel corso dell'anno al singolo dipendente, anche da diverse amministrazioni, non possono superare il 50% del trattamento economico annuo lor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’incentivo non si applica al personale con qualifica dirigenzia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’incentivo si applica agli appalti relativi a servizi o forniture nel caso in cui sia stato nominato il direttore dell'esecuzi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3T15:44:14Z</dcterms:created>
  <dc:creator>omar gozzoli</dc:creator>
  <dc:description/>
  <dc:language>en-US</dc:language>
  <cp:lastModifiedBy>segretario</cp:lastModifiedBy>
  <cp:lastPrinted>2014-01-28T11:27:24Z</cp:lastPrinted>
  <dcterms:modified xsi:type="dcterms:W3CDTF">2019-03-22T08:21:25Z</dcterms:modified>
  <cp:revision>1522</cp:revision>
  <dc:subject/>
  <dc:title>Ordinamento finanziario e contabile</dc:title>
</cp:coreProperties>
</file>