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9C93-98BF-4453-AB5E-A6529F21523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egnaposto numero diapositiva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7ACC-7CB1-44A9-89D5-35E85BFF76C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6DE5-7C44-4BF2-AA15-8917A301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C1F3-6AC8-41FA-94C8-3A2B56EB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B416-1F92-482D-AD9B-6F262DDD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0718-E059-4BED-B37F-376701D6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9F0C-C6D3-4A9E-99FE-F3C8B33F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803E-C8E6-45C4-AD96-69012222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191-A64C-4D85-8C9F-8B9B608E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8936-2876-4753-8D19-581A0116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DED-AA05-4D84-AC1A-4E741557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2BFC-2999-4618-ACAE-33B264F8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DF79-D903-475F-82C3-CD9AC00D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7CD0-35AC-4F3E-9ED4-04A21072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7256-958E-4B3E-8804-A688C542145A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CRITERI DI AGGIUDICAZIONE E CA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L’ART. 95 CO.3 PREVEDE:</a:t>
            </a:r>
            <a:r>
              <a:rPr b="1" lang="it-IT" sz="4000" spc="-1" strike="noStrike">
                <a:solidFill>
                  <a:srgbClr val="8800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ono aggiudicati con il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riterio dell‘OEPV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rvizi sociali, di ristorazione ospedaliera, assistenziale e scolastica, servizi ad alta intensità di manodopera (art. 50 co. 2)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fatti salvi gli affidamenti diretti </a:t>
            </a:r>
            <a:r>
              <a:rPr b="1" i="1" lang="it-IT" sz="3200" spc="-1" strike="noStrike">
                <a:solidFill>
                  <a:srgbClr val="ff0000"/>
                </a:solidFill>
                <a:latin typeface="Arial"/>
              </a:rPr>
              <a:t>ex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 art. 36 co. 2 lett. a)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rvizi di ingegneria e architettura e altri servizi di natura tecnica e intellettuale, di importo 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pari 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uperiore a 40.000 e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Inoltre, si applica l’OEPV (LG.2):</a:t>
            </a:r>
            <a:r>
              <a:rPr b="1" lang="it-IT" sz="4000" spc="-1" strike="noStrike">
                <a:solidFill>
                  <a:srgbClr val="8800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) dialogo competitivo (art. 64, comma 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) partenariato per l’innovazione (art. 65, comma 4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) affidamento di servizi sanitari, servizi sociali e servizi connessi, servizi di prestazioni sociali, altri servizi pubblici, sociali e personali, inclusi i servizi forniti da associazioni sindacali, da organizzazioni politiche, da associazioni giovanili e altri servizi di organizzazioni associative, così come individuati dall’art. 142, commi 5-bis e 5-septies, in quanto non compresi dall’ipotesi sub 95, comma 3, lett. a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) servizi di ristorazione (allegato IX), ai sensi dell’art. 144, comma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) affidamento di servizi sostitutivi di mensa, ai sensi dell’art. 144, comma 6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) finanza di progetto, ai sensi dell’art. 183, comma 4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) locazione finanziaria, ai sensi dell’art. 187, comma 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) contratto di disponibilità, ai sensi dell’art. 188, comma 3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) affidamento a contraente generale, ai sensi dell’art. 195, comma 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7030a0"/>
                </a:solidFill>
                <a:latin typeface="Arial"/>
              </a:rPr>
              <a:t>Forniture e servizi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Arial"/>
              </a:rPr>
              <a:t>Criterio del minor prezzo per servizi e fornitur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 qualsiasi tipo, fino a 40m euro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030a0"/>
                </a:solidFill>
                <a:latin typeface="Arial"/>
              </a:rPr>
              <a:t>con caratteristiche standardizzate (di qualunque importo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7030a0"/>
                </a:solidFill>
                <a:latin typeface="Arial"/>
              </a:rPr>
              <a:t>le cui condizioni siano definite dal mercato (di qualunque importo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ppure, </a:t>
            </a:r>
            <a:r>
              <a:rPr b="1" lang="it-IT" sz="2800" spc="-1" strike="noStrike">
                <a:solidFill>
                  <a:srgbClr val="7030a0"/>
                </a:solidFill>
                <a:latin typeface="Arial"/>
              </a:rPr>
              <a:t>se caratterizzati da elevata ripetitività, fino a soglia UE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fatta eccezione per quelli di notevole contenuto tecnologico o che abbiano carattere innovativo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7030a0"/>
                </a:solidFill>
                <a:latin typeface="Arial"/>
              </a:rPr>
              <a:t>LG n. 2 (delib. 424/20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rvizi/forniture </a:t>
            </a:r>
            <a:r>
              <a:rPr b="0" lang="it-IT" sz="3200" spc="-1" strike="noStrike">
                <a:solidFill>
                  <a:srgbClr val="880089"/>
                </a:solidFill>
                <a:latin typeface="Arial"/>
              </a:rPr>
              <a:t>“</a:t>
            </a:r>
            <a:r>
              <a:rPr b="1" lang="it-IT" sz="3200" spc="-1" strike="noStrike">
                <a:solidFill>
                  <a:srgbClr val="880089"/>
                </a:solidFill>
                <a:latin typeface="Arial"/>
              </a:rPr>
              <a:t>con caratteristiche standardizzate o le cui condizioni sono definite dal mercato</a:t>
            </a:r>
            <a:r>
              <a:rPr b="0" lang="it-IT" sz="3200" spc="-1" strike="noStrike">
                <a:solidFill>
                  <a:srgbClr val="880089"/>
                </a:solidFill>
                <a:latin typeface="Arial"/>
              </a:rPr>
              <a:t>”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vono intendersi quelli che: </a:t>
            </a:r>
            <a:r>
              <a:rPr b="0" lang="it-IT" sz="2800" spc="-1" strike="noStrike">
                <a:solidFill>
                  <a:srgbClr val="880089"/>
                </a:solidFill>
                <a:latin typeface="Arial"/>
              </a:rPr>
              <a:t>anche con riferimento alla prassi produttiva sviluppatasi nel mkt di riferimento </a:t>
            </a:r>
            <a:r>
              <a:rPr b="1" lang="it-IT" sz="2800" spc="-1" strike="noStrike" u="sng">
                <a:solidFill>
                  <a:srgbClr val="880089"/>
                </a:solidFill>
                <a:uFillTx/>
                <a:latin typeface="Arial"/>
              </a:rPr>
              <a:t>non sono modificabili</a:t>
            </a:r>
            <a:r>
              <a:rPr b="0" lang="it-IT" sz="2800" spc="-1" strike="noStrike">
                <a:solidFill>
                  <a:srgbClr val="880089"/>
                </a:solidFill>
                <a:latin typeface="Arial"/>
              </a:rPr>
              <a:t> </a:t>
            </a:r>
            <a:r>
              <a:rPr b="1" lang="it-IT" sz="2800" spc="-1" strike="noStrike" u="sng">
                <a:solidFill>
                  <a:srgbClr val="880089"/>
                </a:solidFill>
                <a:uFillTx/>
                <a:latin typeface="Arial"/>
              </a:rPr>
              <a:t>su richiesta </a:t>
            </a:r>
            <a:r>
              <a:rPr b="0" lang="it-IT" sz="2800" spc="-1" strike="noStrike">
                <a:solidFill>
                  <a:srgbClr val="880089"/>
                </a:solidFill>
                <a:latin typeface="Arial"/>
              </a:rPr>
              <a:t>della stazione appaltante, oppure</a:t>
            </a:r>
            <a:r>
              <a:rPr b="1" lang="it-IT" sz="2800" spc="-1" strike="noStrike">
                <a:solidFill>
                  <a:srgbClr val="880089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880089"/>
                </a:solidFill>
                <a:latin typeface="Arial"/>
              </a:rPr>
              <a:t>rispondono a determinate </a:t>
            </a:r>
            <a:r>
              <a:rPr b="1" lang="it-IT" sz="2800" spc="-1" strike="noStrike" u="sng">
                <a:solidFill>
                  <a:srgbClr val="880089"/>
                </a:solidFill>
                <a:uFillTx/>
                <a:latin typeface="Arial"/>
              </a:rPr>
              <a:t>norme nazionali, europee o internazionali</a:t>
            </a:r>
            <a:r>
              <a:rPr b="1" lang="it-IT" sz="2800" spc="-1" strike="noStrike">
                <a:solidFill>
                  <a:srgbClr val="88008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7030a0"/>
                </a:solidFill>
                <a:latin typeface="Arial"/>
              </a:rPr>
              <a:t>LG n. 2 (delib. 424/20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80089"/>
                </a:solidFill>
                <a:latin typeface="Arial"/>
              </a:rPr>
              <a:t>I servizi e le forni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80089"/>
                </a:solidFill>
                <a:latin typeface="Arial"/>
              </a:rPr>
              <a:t>“</a:t>
            </a:r>
            <a:r>
              <a:rPr b="1" lang="it-IT" sz="2800" spc="-1" strike="noStrike">
                <a:solidFill>
                  <a:srgbClr val="880089"/>
                </a:solidFill>
                <a:latin typeface="Arial"/>
              </a:rPr>
              <a:t>caratterizzati da elevata ripetitività</a:t>
            </a:r>
            <a:r>
              <a:rPr b="0" lang="it-IT" sz="2800" spc="-1" strike="noStrike">
                <a:solidFill>
                  <a:srgbClr val="880089"/>
                </a:solidFill>
                <a:latin typeface="Arial"/>
              </a:rPr>
              <a:t>”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80089"/>
                </a:solidFill>
                <a:latin typeface="Arial"/>
              </a:rPr>
              <a:t>soddisfano </a:t>
            </a:r>
            <a:r>
              <a:rPr b="1" lang="it-IT" sz="2800" spc="-1" strike="noStrike">
                <a:solidFill>
                  <a:srgbClr val="880089"/>
                </a:solidFill>
                <a:latin typeface="Arial"/>
              </a:rPr>
              <a:t>esigenze generiche e ricorrenti</a:t>
            </a:r>
            <a:r>
              <a:rPr b="0" lang="it-IT" sz="2800" spc="-1" strike="noStrike">
                <a:solidFill>
                  <a:srgbClr val="880089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80089"/>
                </a:solidFill>
                <a:latin typeface="Arial"/>
              </a:rPr>
              <a:t>connesse alla </a:t>
            </a:r>
            <a:r>
              <a:rPr b="1" lang="it-IT" sz="2800" spc="-1" strike="noStrike">
                <a:solidFill>
                  <a:srgbClr val="880089"/>
                </a:solidFill>
                <a:latin typeface="Arial"/>
              </a:rPr>
              <a:t>normale operatività </a:t>
            </a:r>
            <a:r>
              <a:rPr b="0" lang="it-IT" sz="2800" spc="-1" strike="noStrike">
                <a:solidFill>
                  <a:srgbClr val="880089"/>
                </a:solidFill>
                <a:latin typeface="Arial"/>
              </a:rPr>
              <a:t>delle stazioni appaltati, richiedendo </a:t>
            </a:r>
            <a:r>
              <a:rPr b="1" lang="it-IT" sz="2800" spc="-1" strike="noStrike">
                <a:solidFill>
                  <a:srgbClr val="880089"/>
                </a:solidFill>
                <a:latin typeface="Arial"/>
              </a:rPr>
              <a:t>approvvigionamenti frequenti</a:t>
            </a:r>
            <a:r>
              <a:rPr b="0" lang="it-IT" sz="2800" spc="-1" strike="noStrike">
                <a:solidFill>
                  <a:srgbClr val="880089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880089"/>
                </a:solidFill>
                <a:latin typeface="Arial"/>
              </a:rPr>
              <a:t>al fine di assicurare la continuità della prestazi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7030a0"/>
                </a:solidFill>
                <a:latin typeface="Arial"/>
              </a:rPr>
              <a:t>LG n. 2 (delib. 424/2018) pag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sendo una deroga al principio generale dell’OEPV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 stazioni appaltanti che intendono procedere all’aggiudicazione utilizzando il </a:t>
            </a:r>
            <a:r>
              <a:rPr b="1" lang="it-IT" sz="3600" spc="-1" strike="noStrike" u="sng">
                <a:solidFill>
                  <a:srgbClr val="880089"/>
                </a:solidFill>
                <a:uFillTx/>
                <a:latin typeface="Arial"/>
              </a:rPr>
              <a:t>criterio del minor prezzo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vono dar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 u="sng">
                <a:solidFill>
                  <a:srgbClr val="880089"/>
                </a:solidFill>
                <a:uFillTx/>
                <a:latin typeface="Arial"/>
              </a:rPr>
              <a:t>adeguata motivazione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7030a0"/>
                </a:solidFill>
                <a:latin typeface="Arial"/>
              </a:rPr>
              <a:t>Motivazione del “minor prezzo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obbligo di </a:t>
            </a:r>
            <a:r>
              <a:rPr b="1" lang="it-IT" sz="5400" spc="-1" strike="noStrike" u="sng">
                <a:solidFill>
                  <a:srgbClr val="880089"/>
                </a:solidFill>
                <a:uFillTx/>
                <a:latin typeface="Arial"/>
              </a:rPr>
              <a:t>motiv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scelta del criterio del minor prezzo è previsto dal co.5 dell’art. 95 ed è stato confermato dal </a:t>
            </a:r>
            <a:r>
              <a:rPr b="1" lang="it-IT" sz="3200" spc="-1" strike="noStrike">
                <a:solidFill>
                  <a:srgbClr val="7030a0"/>
                </a:solidFill>
                <a:latin typeface="Arial"/>
              </a:rPr>
              <a:t>Consiglio di Stato, Sez. III, 2 maggio 2017 n. 2014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7030a0"/>
                </a:solidFill>
                <a:latin typeface="Arial"/>
              </a:rPr>
              <a:t>SI DEVE </a:t>
            </a:r>
            <a:r>
              <a:rPr b="1" lang="it-IT" sz="4800" spc="-1" strike="noStrike" u="sng">
                <a:solidFill>
                  <a:srgbClr val="7030a0"/>
                </a:solidFill>
                <a:uFillTx/>
                <a:latin typeface="Arial"/>
              </a:rPr>
              <a:t>SCRIVERE</a:t>
            </a:r>
            <a:r>
              <a:rPr b="1" lang="it-IT" sz="4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7030a0"/>
                </a:solidFill>
                <a:latin typeface="Arial"/>
              </a:rPr>
              <a:t>IL MOTIVO NELLA DETERMINA A CONTRATTAR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7030a0"/>
                </a:solidFill>
                <a:latin typeface="Arial"/>
              </a:rPr>
              <a:t>LG n. 2 (pag. 3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eggendo con attenzione le linee guida, posso trovare degli “spunti”, dei “suggerimenti” dell’ANA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7030a0"/>
                </a:solidFill>
                <a:latin typeface="Arial"/>
              </a:rPr>
              <a:t>(tranquilli, sono assolutamente involontari!)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r motivare la scelta del minor prezz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7030a0"/>
                </a:solidFill>
                <a:latin typeface="Arial"/>
              </a:rPr>
              <a:t>LG n. 2 (pag. 3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art.95 consente di evitare gli oneri, in termini di tempi e costi, di un confronto concorrenziale basato sul miglior rapporto qualità e prezzo, </a:t>
            </a:r>
            <a:r>
              <a:rPr b="1" lang="it-IT" sz="4000" spc="-1" strike="noStrike">
                <a:solidFill>
                  <a:srgbClr val="880089"/>
                </a:solidFill>
                <a:latin typeface="Arial"/>
              </a:rPr>
              <a:t>quando i benefici derivanti da tale confronto sono nulli o ridot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relazione all’importo del contrat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7030a0"/>
                </a:solidFill>
                <a:latin typeface="Arial"/>
              </a:rPr>
              <a:t>LG n. 2 (pag. 3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iò si verifica quando le condizioni di offerta sono tali da </a:t>
            </a:r>
            <a:r>
              <a:rPr b="1" lang="it-IT" sz="4000" spc="-1" strike="noStrike">
                <a:solidFill>
                  <a:srgbClr val="880089"/>
                </a:solidFill>
                <a:latin typeface="Arial"/>
              </a:rPr>
              <a:t>imporre, di fatto, l’acquisto di beni o serviz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80089"/>
                </a:solidFill>
                <a:latin typeface="Arial"/>
              </a:rPr>
              <a:t>con </a:t>
            </a:r>
            <a:r>
              <a:rPr b="1" lang="it-IT" sz="4000" spc="-1" strike="noStrike" u="sng">
                <a:solidFill>
                  <a:srgbClr val="880089"/>
                </a:solidFill>
                <a:uFillTx/>
                <a:latin typeface="Arial"/>
              </a:rPr>
              <a:t>condizioni note</a:t>
            </a:r>
            <a:r>
              <a:rPr b="1" lang="it-IT" sz="4000" spc="-1" strike="noStrike">
                <a:solidFill>
                  <a:srgbClr val="8800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80089"/>
                </a:solidFill>
                <a:latin typeface="Arial"/>
              </a:rPr>
              <a:t>alla stazione appaltante già in fase di predisposizione del ba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17375e"/>
                </a:solidFill>
                <a:latin typeface="Arial"/>
              </a:rPr>
              <a:t>Linee guida n. 2 (del.1005/201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4000" y="16282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d0d0d"/>
                </a:solidFill>
                <a:latin typeface="Arial"/>
              </a:rPr>
              <a:t>Le LG2, sull’offerta economicamente più vantaggios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d0d0d"/>
                </a:solidFill>
                <a:latin typeface="Arial"/>
              </a:rPr>
              <a:t>sono state aggiornate con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300" spc="-1" strike="noStrike">
                <a:solidFill>
                  <a:srgbClr val="ff0000"/>
                </a:solidFill>
                <a:latin typeface="Arial"/>
              </a:rPr>
              <a:t>deliberazione ANAC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300" spc="-1" strike="noStrike">
                <a:solidFill>
                  <a:srgbClr val="ff0000"/>
                </a:solidFill>
                <a:latin typeface="Arial"/>
              </a:rPr>
              <a:t>2 maggio 2018 n. 424</a:t>
            </a:r>
            <a:r>
              <a:rPr b="0" lang="it-IT" sz="4300" spc="-1" strike="noStrike">
                <a:solidFill>
                  <a:srgbClr val="0d0d0d"/>
                </a:solidFill>
                <a:latin typeface="Arial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d0d0d"/>
                </a:solidFill>
                <a:latin typeface="Arial"/>
              </a:rPr>
              <a:t>pubblicata sul sito dell’ANAC dal 15 maggio 2018 (in GU 25/5/2018 n. 1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d0d0d"/>
                </a:solidFill>
                <a:latin typeface="Arial"/>
              </a:rPr>
              <a:t>(Il Consiglio di Stato si era espresso con il parere n. 316/2018 del 16 marzo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7030a0"/>
                </a:solidFill>
                <a:latin typeface="Arial"/>
              </a:rPr>
              <a:t>LG n. 2 (pag. 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 quando, per gli affidamenti di </a:t>
            </a:r>
            <a:r>
              <a:rPr b="1" lang="it-IT" sz="3900" spc="-1" strike="noStrike" u="sng">
                <a:solidFill>
                  <a:srgbClr val="880089"/>
                </a:solidFill>
                <a:uFillTx/>
                <a:latin typeface="Arial"/>
              </a:rPr>
              <a:t>importo limitato, </a:t>
            </a:r>
            <a:r>
              <a:rPr b="1" lang="it-IT" sz="3900" spc="-1" strike="noStrike">
                <a:solidFill>
                  <a:srgbClr val="880089"/>
                </a:solidFill>
                <a:latin typeface="Arial"/>
              </a:rPr>
              <a:t>i vantaggi attesi, in termini di qualità, sono ridotti</a:t>
            </a:r>
            <a:r>
              <a:rPr b="0" lang="it-IT" sz="3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quanto la stazione appaltante predispone il </a:t>
            </a:r>
            <a:r>
              <a:rPr b="1" lang="it-IT" sz="3200" spc="-1" strike="noStrike" u="sng">
                <a:solidFill>
                  <a:srgbClr val="880089"/>
                </a:solidFill>
                <a:uFillTx/>
                <a:latin typeface="Arial"/>
              </a:rPr>
              <a:t>progetto esecutivo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i lavori (e non necessita di un rilancio competitivo su aspetti e caratteristiche che vengono compiutamente definiti ex ante nel progetto posto a base di ga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7030a0"/>
                </a:solidFill>
                <a:latin typeface="Arial"/>
              </a:rPr>
              <a:t>LG n. 2 (pag. 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1341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 la stessa amministrazione ha u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880089"/>
                </a:solidFill>
                <a:latin typeface="Arial"/>
              </a:rPr>
              <a:t>lunga esperienza nell’acquis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80089"/>
                </a:solidFill>
                <a:latin typeface="Arial"/>
              </a:rPr>
              <a:t>di servizi o forniture a causa della ripetitività degli stess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4777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7030a0"/>
                </a:solidFill>
                <a:latin typeface="Arial"/>
              </a:rPr>
              <a:t>Es.1) motivazione del “minor prezz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9640" y="170028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siderate  le caratteristiche sostanzialmente standardizzate della fornitur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isto che non è assolutamente necessario, ma  nemmeno possibile, richiedere speciali modifiche che non siano previste dal catalog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’affidamento avverrà con il criterio del minor prezzo, secondo l’art. 95 co. 4 del Codice e la deliberazione ANAC n. 1005/2016 (come rinnovata con deliberazione n. 424/2018);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7030a0"/>
                </a:solidFill>
                <a:latin typeface="Arial"/>
              </a:rPr>
              <a:t>Es.2) motivazione del “minor prezz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9640" y="177336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servizi richiesti si caratterizzano per l’elevata ripetitività, soddisfano esigenze generiche e ricorrenti, connesse alla normale operatività di questo comun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benefici derivanti dall’applicazione del criterio dell’OEPV, sarebbero pressochè nulli o assai ridotti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indi, l’appaltatore sarà selezionato con il criterio del minor prezzo, secondo l’art. 95 co. 4 e la delibera ANAC n.1005/2016 … ec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880089"/>
                </a:solidFill>
                <a:latin typeface="Arial"/>
              </a:rPr>
              <a:t>Art. 95 co. 10b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’art. 95, comma 10-bis, prescrive che la stazione appaltante stabilis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7030a0"/>
                </a:solidFill>
                <a:latin typeface="Arial"/>
              </a:rPr>
              <a:t>un tetto massimo attribuibile al punteggio economico, entro il limite del 30%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880089"/>
                </a:solidFill>
                <a:latin typeface="Arial"/>
              </a:rPr>
              <a:t>Art. 95 co. 10b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9640" y="16282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espressa previsione della norma, </a:t>
            </a:r>
            <a:r>
              <a:rPr b="1" lang="it-IT" sz="3200" spc="-1" strike="noStrike">
                <a:solidFill>
                  <a:srgbClr val="7030a0"/>
                </a:solidFill>
                <a:latin typeface="Arial"/>
              </a:rPr>
              <a:t>tale misura è finalizzata ad assicurare l’effettiva individuazione del miglior rapporto qualità/prezz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a valorizzare gli elementi qualitativi dell’offerta in modo tale da dare spazio </a:t>
            </a:r>
            <a:r>
              <a:rPr b="1" lang="it-IT" sz="3200" spc="-1" strike="noStrike">
                <a:solidFill>
                  <a:srgbClr val="7030a0"/>
                </a:solidFill>
                <a:latin typeface="Arial"/>
              </a:rPr>
              <a:t>a criteri che garantiscano un confronto concorrenziale effettivo sui profili tecnic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880089"/>
                </a:solidFill>
                <a:latin typeface="Arial"/>
              </a:rPr>
              <a:t>LG n. 2 (delib. 424/20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282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3100" spc="-1" strike="noStrike">
                <a:solidFill>
                  <a:srgbClr val="000000"/>
                </a:solidFill>
                <a:latin typeface="Arial"/>
              </a:rPr>
              <a:t>scelta del criterio </a:t>
            </a: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di aggiudicazione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la definizione dei </a:t>
            </a:r>
            <a:r>
              <a:rPr b="1" lang="it-IT" sz="3100" spc="-1" strike="noStrike">
                <a:solidFill>
                  <a:srgbClr val="000000"/>
                </a:solidFill>
                <a:latin typeface="Arial"/>
              </a:rPr>
              <a:t>criteri di valutazione</a:t>
            </a: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, dei metodi e delle formule per l’attribuzione dei punteggi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3100" spc="-1" strike="noStrike">
                <a:solidFill>
                  <a:srgbClr val="000000"/>
                </a:solidFill>
                <a:latin typeface="Arial"/>
              </a:rPr>
              <a:t>determinazione dei punteggi </a:t>
            </a: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stessi e del </a:t>
            </a:r>
            <a:r>
              <a:rPr b="1" lang="it-IT" sz="3100" spc="-1" strike="noStrike">
                <a:solidFill>
                  <a:srgbClr val="000000"/>
                </a:solidFill>
                <a:latin typeface="Arial"/>
              </a:rPr>
              <a:t>metodo per la formazione della graduatoria final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ff0000"/>
                </a:solidFill>
                <a:latin typeface="Arial"/>
              </a:rPr>
              <a:t>si sviluppano nel corso della vita iniziale dell’appalto, dalla programmazione alla predisposizione della documentazione di gara</a:t>
            </a:r>
            <a:r>
              <a:rPr b="0" lang="it-IT" sz="31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880089"/>
                </a:solidFill>
                <a:latin typeface="Arial"/>
              </a:rPr>
              <a:t>L’ANAC raccomanda (pag.5)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282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2060"/>
                </a:solidFill>
                <a:latin typeface="Arial"/>
              </a:rPr>
              <a:t>a) in fase di programmazione, di definire le caratteristiche dell’affidamento che consentono di verificare la sussistenza delle condizioni per le quali il Codice e le linee guida prescrivono o consentono l’utilizzo di un particolare criterio di aggiudicazion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2060"/>
                </a:solidFill>
                <a:latin typeface="Arial"/>
              </a:rPr>
              <a:t>b) </a:t>
            </a:r>
            <a:r>
              <a:rPr b="1" lang="it-IT" sz="2700" spc="-1" strike="noStrike">
                <a:solidFill>
                  <a:srgbClr val="002060"/>
                </a:solidFill>
                <a:latin typeface="Arial"/>
              </a:rPr>
              <a:t>in fase di progettazione, di </a:t>
            </a:r>
            <a:r>
              <a:rPr b="1" lang="it-IT" sz="3200" spc="-1" strike="noStrike" u="sng">
                <a:solidFill>
                  <a:srgbClr val="002060"/>
                </a:solidFill>
                <a:uFillTx/>
                <a:latin typeface="Arial"/>
              </a:rPr>
              <a:t>avviare la definizione dei criteri di valutazione e dei relativi punteggi</a:t>
            </a:r>
            <a:r>
              <a:rPr b="1" lang="it-IT" sz="27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2060"/>
                </a:solidFill>
                <a:latin typeface="Arial"/>
              </a:rPr>
              <a:t>c) in sede di adozione della determina a contrarre e di elaborazione della documentazione di gara, di procedere alla </a:t>
            </a:r>
            <a:r>
              <a:rPr b="1" lang="it-IT" sz="2700" spc="-1" strike="noStrike">
                <a:solidFill>
                  <a:srgbClr val="002060"/>
                </a:solidFill>
                <a:latin typeface="Arial"/>
              </a:rPr>
              <a:t>compiuta definizione degli ulteriori elementi</a:t>
            </a:r>
            <a:r>
              <a:rPr b="0" lang="it-IT" sz="27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880089"/>
                </a:solidFill>
                <a:latin typeface="Arial"/>
              </a:rPr>
              <a:t>LG n. 2 (pag. 5)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Nella fase del disegno della gara la stazione appaltante deve </a:t>
            </a:r>
            <a:r>
              <a:rPr b="1" lang="it-IT" sz="3000" spc="-1" strike="noStrike" u="sng">
                <a:solidFill>
                  <a:srgbClr val="ff0000"/>
                </a:solidFill>
                <a:uFillTx/>
                <a:latin typeface="Arial"/>
              </a:rPr>
              <a:t>individuare concretamente i propri obiettivi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(di regola molteplici), attribuire un peso relativo a ciascuno di ess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l primo problema che la stazione appaltante si deve porre nella predisposizione degli atti di gara è </a:t>
            </a:r>
            <a:r>
              <a:rPr b="1" lang="it-IT" sz="3000" spc="-1" strike="noStrike" u="sng">
                <a:solidFill>
                  <a:srgbClr val="ff0000"/>
                </a:solidFill>
                <a:uFillTx/>
                <a:latin typeface="Arial"/>
              </a:rPr>
              <a:t>la definizione degli obiettivi che intende perseguire e l’importanza che intende attribuire a ciascuno di essi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880089"/>
                </a:solidFill>
                <a:latin typeface="Arial"/>
              </a:rPr>
              <a:t>Criteri di valutazione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) la </a:t>
            </a:r>
            <a:r>
              <a:rPr b="1" lang="it-IT" sz="2400" spc="-1" strike="noStrike" u="sng">
                <a:solidFill>
                  <a:srgbClr val="880089"/>
                </a:solidFill>
                <a:uFillTx/>
                <a:latin typeface="Arial"/>
              </a:rPr>
              <a:t>qualità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he comprende pregio tecnico, caratteristiche estetiche e funzionali, accessibilità per le persone con disabilità, progettazione adeguata per tutti gli utenti, certificazioni in materia di sicurezza e salute dei lavoratori, quali OSHAS 18001, </a:t>
            </a:r>
            <a:r>
              <a:rPr b="1" lang="it-IT" sz="2400" spc="-1" strike="noStrike">
                <a:solidFill>
                  <a:srgbClr val="7030a0"/>
                </a:solidFill>
                <a:latin typeface="Arial"/>
              </a:rPr>
              <a:t>caratteristiche sociali, ambientali, contenimento dei consumi energetici e delle risorse ambienta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l'opera o del prodotto, caratteristiche innovative, commercializzazione e relative condizioni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) il </a:t>
            </a:r>
            <a:r>
              <a:rPr b="1" lang="it-IT" sz="2400" spc="-1" strike="noStrike" u="sng">
                <a:solidFill>
                  <a:srgbClr val="880089"/>
                </a:solidFill>
                <a:uFillTx/>
                <a:latin typeface="Arial"/>
              </a:rPr>
              <a:t>possesso di un marchio di qualità ecologica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’UE (Ecolabel UE) in relazione ai beni o servizi oggetto del contratto, in misura pari o superiore al 30% del valore delle forniture o prestazioni oggetto del contratto stesso; </a:t>
            </a:r>
            <a:br>
              <a:rPr sz="17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17375e"/>
                </a:solidFill>
                <a:latin typeface="Arial"/>
              </a:rPr>
              <a:t>Criteri di aggiudicazione (art. 9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offerta economicamente più vantaggios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dividuata sulla base del miglior rapporto qualità/prezz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minor prezz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mparazione costo/efficacia o «costo del ciclo di vita» (art. 96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880089"/>
                </a:solidFill>
                <a:latin typeface="Arial"/>
              </a:rPr>
              <a:t>Criteri di valutazione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) il </a:t>
            </a:r>
            <a:r>
              <a:rPr b="1" lang="it-IT" sz="2400" spc="-1" strike="noStrike" u="sng">
                <a:solidFill>
                  <a:srgbClr val="880089"/>
                </a:solidFill>
                <a:uFillTx/>
                <a:latin typeface="Arial"/>
              </a:rPr>
              <a:t>costo di utilizzazione e manutenzion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vuto anche riguardo ai </a:t>
            </a:r>
            <a:r>
              <a:rPr b="1" lang="it-IT" sz="2400" spc="-1" strike="noStrike">
                <a:solidFill>
                  <a:srgbClr val="7030a0"/>
                </a:solidFill>
                <a:latin typeface="Arial"/>
              </a:rPr>
              <a:t>consumi di energia e delle risorse natura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alle emissioni inquinanti e ai costi complessivi, inclusi quelli esterni e di mitigazione degli impatti dei cambiamenti climatici, riferiti all'intero ciclo di vita dell'opera, bene o servizio, con </a:t>
            </a:r>
            <a:r>
              <a:rPr b="1" lang="it-IT" sz="2400" spc="-1" strike="noStrike">
                <a:solidFill>
                  <a:srgbClr val="7030a0"/>
                </a:solidFill>
                <a:latin typeface="Arial"/>
              </a:rPr>
              <a:t>l'obiettivo strategico di un uso più efficiente delle risorse e di un'economia circolare che promuova ambiente e occup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) la </a:t>
            </a:r>
            <a:r>
              <a:rPr b="1" lang="it-IT" sz="2400" spc="-1" strike="noStrike" u="sng">
                <a:solidFill>
                  <a:srgbClr val="880089"/>
                </a:solidFill>
                <a:uFillTx/>
                <a:latin typeface="Arial"/>
              </a:rPr>
              <a:t>compensazione delle emissioni di gas ad effetto serra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ssociate alle attività dell'azienda calcolate secondo i metodi stabiliti in base alla raccomandazione n.2013/179/UE della Commissione del 9 aprile 2013, relativa all'uso di metodologie comuni per misurare e comunicare le prestazioni ambientali nel corso del ciclo di vita dei prodotti e delle organizzazion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880089"/>
                </a:solidFill>
                <a:latin typeface="Arial"/>
              </a:rPr>
              <a:t>Criteri di valutazione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1" lang="it-IT" sz="2400" spc="-1" strike="noStrike">
                <a:solidFill>
                  <a:srgbClr val="7030a0"/>
                </a:solidFill>
                <a:latin typeface="Arial"/>
              </a:rPr>
              <a:t>l’organizzazione, le qualifiche e l’esperienza del personale</a:t>
            </a:r>
            <a:r>
              <a:rPr b="1" lang="it-IT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ffettivamente utilizzato nell’appalto, qualora la qualità del personale incaricato possa avere un'influenza significativa sul livello dell'esecuzione dell'appalt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) </a:t>
            </a:r>
            <a:r>
              <a:rPr b="1" lang="it-IT" sz="2400" spc="-1" strike="noStrike">
                <a:solidFill>
                  <a:srgbClr val="7030a0"/>
                </a:solidFill>
                <a:latin typeface="Arial"/>
              </a:rPr>
              <a:t>il servizio successivo alla vendita e assistenza tecnica</a:t>
            </a:r>
            <a:r>
              <a:rPr b="0" lang="it-IT" sz="2400" spc="-1" strike="noStrike">
                <a:solidFill>
                  <a:srgbClr val="7030a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) le </a:t>
            </a:r>
            <a:r>
              <a:rPr b="1" lang="it-IT" sz="2400" spc="-1" strike="noStrike">
                <a:solidFill>
                  <a:srgbClr val="7030a0"/>
                </a:solidFill>
                <a:latin typeface="Arial"/>
              </a:rPr>
              <a:t>condizioni di consegna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li la data di consegna, il processo di consegna e il termine di consegna o di esecuzi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4f6228"/>
                </a:solidFill>
                <a:latin typeface="Arial"/>
              </a:rPr>
              <a:t>CAM (artt. 34 e 7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Le stazioni appaltanti contribuiscono al conseguimento degli obiettivi ambientali del  </a:t>
            </a:r>
            <a:r>
              <a:rPr b="1" lang="it-IT" sz="3200" spc="-1" strike="noStrike">
                <a:solidFill>
                  <a:srgbClr val="002060"/>
                </a:solidFill>
                <a:latin typeface="Arial"/>
              </a:rPr>
              <a:t>Piano d’azione per la sostenibilità ambientale e dei consum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nel settore della pubblica amministrazione (</a:t>
            </a:r>
            <a:r>
              <a:rPr b="1" lang="it-IT" sz="3600" spc="-1" strike="noStrike">
                <a:solidFill>
                  <a:srgbClr val="002060"/>
                </a:solidFill>
                <a:latin typeface="Arial"/>
              </a:rPr>
              <a:t>PAN GPP</a:t>
            </a: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, DM 11.4.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f6228"/>
                </a:solidFill>
                <a:latin typeface="Arial"/>
              </a:rPr>
              <a:t>Criteri ambientali minimi (art.3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I </a:t>
            </a:r>
            <a:r>
              <a:rPr b="1" lang="it-IT" sz="3200" spc="-1" strike="noStrike">
                <a:solidFill>
                  <a:srgbClr val="002060"/>
                </a:solidFill>
                <a:latin typeface="Arial"/>
              </a:rPr>
              <a:t>criteri ambientali minimi</a:t>
            </a: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, definiti con DM, «in particolare i </a:t>
            </a:r>
            <a:r>
              <a:rPr b="1" lang="it-IT" sz="3200" spc="-1" strike="noStrike">
                <a:solidFill>
                  <a:srgbClr val="002060"/>
                </a:solidFill>
                <a:latin typeface="Arial"/>
              </a:rPr>
              <a:t>criteri premianti </a:t>
            </a: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sono tenuti in considerazione anche ai fini della stesura dei documenti di gara per l’applicazione del criterio dell’offerta economicamente più vantaggios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2060"/>
                </a:solidFill>
                <a:latin typeface="Arial"/>
              </a:rPr>
              <a:t>Obbligo valido per affidamenti di qualunque importo</a:t>
            </a:r>
            <a:r>
              <a:rPr b="0" lang="it-IT" sz="40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f6228"/>
                </a:solidFill>
                <a:latin typeface="Arial"/>
              </a:rPr>
              <a:t>Criteri ambientali minimi (art.3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Sono definiti con </a:t>
            </a:r>
            <a:r>
              <a:rPr b="1" lang="it-IT" sz="3200" spc="-1" strike="noStrike">
                <a:solidFill>
                  <a:srgbClr val="002060"/>
                </a:solidFill>
                <a:latin typeface="Arial"/>
              </a:rPr>
              <a:t>DM</a:t>
            </a: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Esemp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Arredi, DM 11/1/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Ristorazione, DM 25/6/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Edilizia, DM 11/10/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Illuminazione, DM 27/9/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f6228"/>
                </a:solidFill>
                <a:latin typeface="Arial"/>
              </a:rPr>
              <a:t>Criteri ambientali minimi (art.3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le stazioni appaltanti sono tenute ad utilizzare, per qualunque importo e per l'intero valore delle gare, almeno le </a:t>
            </a:r>
            <a:r>
              <a:rPr b="1" lang="it-IT" sz="3200" spc="-1" strike="noStrike">
                <a:solidFill>
                  <a:srgbClr val="002060"/>
                </a:solidFill>
                <a:latin typeface="Arial"/>
              </a:rPr>
              <a:t>specifiche tecniche e le clausole contrattuali definite nel DM</a:t>
            </a: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Inoltre, i </a:t>
            </a:r>
            <a:r>
              <a:rPr b="1" lang="it-IT" sz="3200" spc="-1" strike="noStrike">
                <a:solidFill>
                  <a:srgbClr val="002060"/>
                </a:solidFill>
                <a:latin typeface="Arial"/>
              </a:rPr>
              <a:t>criteri premianti contenuti nel DM  </a:t>
            </a: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sono da tenere in considerazione anche ai fini della stesura dei documenti di gara per l'applicazione dell’OE+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f6228"/>
                </a:solidFill>
                <a:latin typeface="Arial"/>
              </a:rPr>
              <a:t>Criteri ambientali minimi (art.3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2060"/>
                </a:solidFill>
                <a:latin typeface="Arial"/>
              </a:rPr>
              <a:t>I CAM possono assumere la forma di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2060"/>
                </a:solidFill>
                <a:latin typeface="Arial"/>
              </a:rPr>
              <a:t>specifiche tecniche</a:t>
            </a:r>
            <a:r>
              <a:rPr b="0" lang="it-IT" sz="4000" spc="-1" strike="noStrike">
                <a:solidFill>
                  <a:srgbClr val="002060"/>
                </a:solidFill>
                <a:latin typeface="Arial"/>
              </a:rPr>
              <a:t>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2060"/>
                </a:solidFill>
                <a:latin typeface="Arial"/>
              </a:rPr>
              <a:t>requisiti</a:t>
            </a:r>
            <a:r>
              <a:rPr b="0" lang="it-IT" sz="4000" spc="-1" strike="noStrike">
                <a:solidFill>
                  <a:srgbClr val="002060"/>
                </a:solidFill>
                <a:latin typeface="Arial"/>
              </a:rPr>
              <a:t> richiesti al concorren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2060"/>
                </a:solidFill>
                <a:latin typeface="Arial"/>
              </a:rPr>
              <a:t>criteri</a:t>
            </a:r>
            <a:r>
              <a:rPr b="0" lang="it-IT" sz="4000" spc="-1" strike="noStrike">
                <a:solidFill>
                  <a:srgbClr val="002060"/>
                </a:solidFill>
                <a:latin typeface="Arial"/>
              </a:rPr>
              <a:t> di valutazione dell’offerta tecn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4f6228"/>
                </a:solidFill>
                <a:latin typeface="Arial"/>
              </a:rPr>
              <a:t>CAM = specifiche tecnich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2060"/>
                </a:solidFill>
                <a:latin typeface="Arial"/>
              </a:rPr>
              <a:t>Esempio di prescrizione tecnica per la progettazione, DM 11/10/2017 (2.2.8.1 Viabilità)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2060"/>
                </a:solidFill>
                <a:latin typeface="Arial"/>
              </a:rPr>
              <a:t>«Ogni qualvolta si intervenga con la sostituzione di una pavimentazione e non sia praticabile l'impiego di superfici a verde, si devono impiegare pavimentazioni di tipo «freddo», scelte tra prato armato, laterizio, pietra chiara, acciottolato, ghiaia, legno, calcare e optare per gli autobloccanti permeabili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4f6228"/>
                </a:solidFill>
                <a:latin typeface="Arial"/>
              </a:rPr>
              <a:t>CAM = requisit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Arial"/>
              </a:rPr>
              <a:t>Es. RISTORAZIONE (DM 25/7/11 par.5.3.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Il concorrente deve utilizzare mezzi di trasporto a basso impatto ambientale per il trasporto delle merci, qu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mezzi di trasporto su ferro, veicoli almeno euro 4, veicoli elettrici, vetture ibr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Arial"/>
              </a:rPr>
              <a:t>Esempio (DM 25/7/11 par.5.3.3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2060"/>
                </a:solidFill>
                <a:uFillTx/>
                <a:latin typeface="Arial"/>
              </a:rPr>
              <a:t>Verifica:</a:t>
            </a: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 l’offerente deve fornire una Scheda dei mezzi di trasporto utilizzati per le merci, sottoscritta dal legale rappresentante, che riporti le seguenti indicazioni: la tipologia dei mezzi di trasporto delle merci e il numero dei mezzi di trasporto utilizzati; la targa dei mezzi di trasporto e copia delle carte di circolazione, se già disponibi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Lavori (art. 95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Può essere utilizzato il criterio del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minor prezzo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per i </a:t>
            </a: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lavori</a:t>
            </a: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 di importo pari o inferiore a 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2.000.000 euro</a:t>
            </a: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, quando l’affidamento avvenga con </a:t>
            </a:r>
            <a:r>
              <a:rPr b="0" lang="it-IT" sz="4000" spc="-1" strike="noStrike" u="sng">
                <a:solidFill>
                  <a:srgbClr val="000000"/>
                </a:solidFill>
                <a:uFillTx/>
                <a:latin typeface="Arial"/>
              </a:rPr>
              <a:t>procedure ordinarie </a:t>
            </a: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sulla base del progetto esecutivo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prima il limite era 1ml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4f6228"/>
                </a:solidFill>
                <a:latin typeface="Arial"/>
              </a:rPr>
              <a:t>PREMIANTI = criteri di valutazi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Arial"/>
              </a:rPr>
              <a:t>Es. RISTORAZIONE (DM 25/7/11 par.5.4.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Attribuire punti all’offerente che si impegna a recuperare il cibo non somministrato e a destinarlo ad organizzazioni non lucrative di utilità sociale che effettuano, a fini di beneficenza, distribuzione gratuita agli indigenti di prodotti alimentari, in linea con la ratio della Legge 155/200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Arial"/>
              </a:rPr>
              <a:t>RISTORAZIONE (DM 25/7/11 par.5.4.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2060"/>
                </a:solidFill>
                <a:uFillTx/>
                <a:latin typeface="Arial"/>
              </a:rPr>
              <a:t>Verifica</a:t>
            </a: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: dichiarazione del legale rappresentante con la quale si attesti la destinazione del cibo non somministrato ad organizzazioni non lucrative di utilità sociale che effettuano, a fini di beneficenza, distribuzione gratuita agli indigenti di prodotti alimentari, corredata da uno specifico Protocollo sottoscritto tra fornitore e organizzazione non lucrativa che attesti tale impeg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cc"/>
                </a:solidFill>
                <a:latin typeface="Arial"/>
              </a:rPr>
              <a:t>Elementi qualitativi dell’offerta tec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cc"/>
                </a:solidFill>
                <a:uFillTx/>
                <a:latin typeface="Arial"/>
              </a:rPr>
              <a:t>LG. 2 (pag.12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nella prassi applicativa, due criteri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cc"/>
                </a:solidFill>
                <a:latin typeface="Arial"/>
              </a:rPr>
              <a:t>l’attribuzione discrezionale di un coefficien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variabile tra zero e uno, da parte di ciascun commissario, da moltiplicare per il punteggi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cc"/>
                </a:solidFill>
                <a:latin typeface="Arial"/>
              </a:rPr>
              <a:t>il confronto a copp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Valutazione discrezionale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(LG.2 pag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Sulla base del criterio, ciascun commissario attribuisce un punteggio a ciascuna offerta. </a:t>
            </a:r>
            <a:r>
              <a:rPr b="1" lang="it-IT" sz="2700" spc="-1" strike="noStrike" u="sng">
                <a:solidFill>
                  <a:srgbClr val="0033cc"/>
                </a:solidFill>
                <a:uFillTx/>
                <a:latin typeface="Arial"/>
              </a:rPr>
              <a:t>Le ragioni di tale attribuzione devono essere </a:t>
            </a:r>
            <a:r>
              <a:rPr b="1" lang="it-IT" sz="2800" spc="-1" strike="noStrike" u="sng">
                <a:solidFill>
                  <a:srgbClr val="0033cc"/>
                </a:solidFill>
                <a:uFillTx/>
                <a:latin typeface="Arial"/>
              </a:rPr>
              <a:t>adeguatamente motivate </a:t>
            </a:r>
            <a:r>
              <a:rPr b="1" lang="it-IT" sz="2700" spc="-1" strike="noStrike" u="sng">
                <a:solidFill>
                  <a:srgbClr val="0033cc"/>
                </a:solidFill>
                <a:uFillTx/>
                <a:latin typeface="Arial"/>
              </a:rPr>
              <a:t>e la motivazione deve essere collegata ai criteri presenti nel bando</a:t>
            </a:r>
            <a:r>
              <a:rPr b="0" lang="it-IT" sz="2700" spc="-1" strike="noStrike">
                <a:solidFill>
                  <a:srgbClr val="0033cc"/>
                </a:solidFill>
                <a:latin typeface="Arial"/>
              </a:rPr>
              <a:t>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In relazione a ciascun criterio o subcriterio la stazione appaltante deve </a:t>
            </a:r>
            <a:r>
              <a:rPr b="1" lang="it-IT" sz="2700" spc="-1" strike="noStrike" u="sng">
                <a:solidFill>
                  <a:srgbClr val="0033cc"/>
                </a:solidFill>
                <a:uFillTx/>
                <a:latin typeface="Arial"/>
              </a:rPr>
              <a:t>indicare gli specifici profili oggetto di valutazione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, in maniera analitica e concreta. Con riferimento a ciascun criterio o subcriterio </a:t>
            </a:r>
            <a:r>
              <a:rPr b="1" lang="it-IT" sz="2700" spc="-1" strike="noStrike" u="sng">
                <a:solidFill>
                  <a:srgbClr val="0033cc"/>
                </a:solidFill>
                <a:uFillTx/>
                <a:latin typeface="Arial"/>
              </a:rPr>
              <a:t>devono essere indicati i relativi descrittori che consentono di definire i livelli qualitativi attesi </a:t>
            </a:r>
            <a:r>
              <a:rPr b="0" lang="it-IT" sz="2700" spc="-1" strike="noStrike">
                <a:solidFill>
                  <a:srgbClr val="0033cc"/>
                </a:solidFill>
                <a:latin typeface="Arial"/>
              </a:rPr>
              <a:t>e di correlare agli stessi un determinato punteggio, 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assicurando la trasparenza e la coerenza delle valutazioni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cc"/>
                </a:solidFill>
                <a:latin typeface="Arial"/>
              </a:rPr>
              <a:t>Cons. di Stato Sez. V n. 4438/2017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3000" spc="-1" strike="noStrike">
                <a:solidFill>
                  <a:srgbClr val="ff0000"/>
                </a:solidFill>
                <a:latin typeface="Arial"/>
              </a:rPr>
              <a:t>punteggio numerico,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espresso sui singoli oggetti di valutazione, </a:t>
            </a:r>
            <a:r>
              <a:rPr b="1" lang="it-IT" sz="3000" spc="-1" strike="noStrike">
                <a:solidFill>
                  <a:srgbClr val="ff0000"/>
                </a:solidFill>
                <a:latin typeface="Arial"/>
              </a:rPr>
              <a:t>equivale a sufficiente motivazione quando </a:t>
            </a:r>
            <a:r>
              <a:rPr b="1" lang="it-IT" sz="3000" spc="-1" strike="noStrike" u="sng">
                <a:solidFill>
                  <a:srgbClr val="ff0000"/>
                </a:solidFill>
                <a:uFillTx/>
                <a:latin typeface="Arial"/>
              </a:rPr>
              <a:t>la griglia delle voci e sottovoci, con i relativi punteggi, è sufficientemente chiara, analitica, articolata</a:t>
            </a:r>
            <a:r>
              <a:rPr b="1" lang="it-IT" sz="3000" spc="-1" strike="noStrike">
                <a:solidFill>
                  <a:srgbClr val="ff0000"/>
                </a:solidFill>
                <a:latin typeface="Arial"/>
              </a:rPr>
              <a:t> tale da circoscrivere in modo adeguato il giudizio della commissione nell'ambito di un </a:t>
            </a:r>
            <a:r>
              <a:rPr b="1" lang="it-IT" sz="3000" spc="-1" strike="noStrike" u="sng">
                <a:solidFill>
                  <a:srgbClr val="ff0000"/>
                </a:solidFill>
                <a:uFillTx/>
                <a:latin typeface="Arial"/>
              </a:rPr>
              <a:t>minimo e di un massimo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, così da rendere comprensibile l'iter logico seguito in concreto da quest'ultima nel valutare i singoli profili tecnici delle offerte sulla base dei criteri predisposti nel bando di gar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cc"/>
                </a:solidFill>
                <a:latin typeface="Arial"/>
              </a:rPr>
              <a:t>Confronto a coppie </a:t>
            </a: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(LG 2 pag.1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400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l caso in cui si scelga di attribuire i coefficienti con il criterio del confronto a coppie il confronto avviene </a:t>
            </a:r>
            <a:r>
              <a:rPr b="1" lang="it-IT" sz="2800" spc="-1" strike="noStrike">
                <a:solidFill>
                  <a:srgbClr val="0033cc"/>
                </a:solidFill>
                <a:latin typeface="Arial"/>
              </a:rPr>
              <a:t>sulla base delle preferenze accordate da ciascun commissario a ciascun progetto in confronto con tutti gli altr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secondo i parametri contenuti nei documenti di ga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33cc"/>
                </a:solidFill>
                <a:latin typeface="Arial"/>
              </a:rPr>
              <a:t>Esemp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Trasformazione in coefficienti della somma dei valori attribuiti dai commissari attraverso il "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confronto a coppie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“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 u="sng">
                <a:solidFill>
                  <a:srgbClr val="000000"/>
                </a:solidFill>
                <a:uFillTx/>
                <a:latin typeface="Arial"/>
              </a:rPr>
              <a:t>Esempio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Cinque i concorrenti, ditte: </a:t>
            </a: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AA, BB, CC, DD, EE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La commissione è composta dai Signori </a:t>
            </a: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Rossi, Bianchi e Verdi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La commissione valuta l'offerta sulla base del criterio "</a:t>
            </a: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qualità e completezza del progetto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“ (</a:t>
            </a: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10 pt = peso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nfronto a copp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Tabella 2" descr=""/>
          <p:cNvPicPr/>
          <p:nvPr/>
        </p:nvPicPr>
        <p:blipFill>
          <a:blip r:embed="rId1"/>
          <a:stretch/>
        </p:blipFill>
        <p:spPr>
          <a:xfrm>
            <a:off x="1822320" y="1749600"/>
            <a:ext cx="5492880" cy="3444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763640" y="1268280"/>
          <a:ext cx="5483160" cy="2664000"/>
        </p:xfrm>
        <a:graphic>
          <a:graphicData uri="http://schemas.openxmlformats.org/drawingml/2006/table">
            <a:tbl>
              <a:tblPr/>
              <a:tblGrid>
                <a:gridCol w="662040"/>
                <a:gridCol w="890640"/>
                <a:gridCol w="638280"/>
                <a:gridCol w="1157040"/>
                <a:gridCol w="1525680"/>
                <a:gridCol w="609480"/>
              </a:tblGrid>
              <a:tr h="439920">
                <a:tc grid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issario = BIANCH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56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A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A 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5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9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5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4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835280" y="1413000"/>
          <a:ext cx="5483160" cy="2320920"/>
        </p:xfrm>
        <a:graphic>
          <a:graphicData uri="http://schemas.openxmlformats.org/drawingml/2006/table">
            <a:tbl>
              <a:tblPr/>
              <a:tblGrid>
                <a:gridCol w="661680"/>
                <a:gridCol w="890640"/>
                <a:gridCol w="638280"/>
                <a:gridCol w="1157400"/>
                <a:gridCol w="1525320"/>
                <a:gridCol w="609840"/>
              </a:tblGrid>
              <a:tr h="250560">
                <a:tc grid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issario = VERD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72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B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A 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A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 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Arial"/>
              </a:rPr>
              <a:t>Linee guida n.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nspiegabilmen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e nuove linee guida, (deliberazione 424/2018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non dicono come leggere l’art.95 per i lavori fino a 2 milion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187280" y="1197000"/>
          <a:ext cx="6491520" cy="4896000"/>
        </p:xfrm>
        <a:graphic>
          <a:graphicData uri="http://schemas.openxmlformats.org/drawingml/2006/table">
            <a:tbl>
              <a:tblPr/>
              <a:tblGrid>
                <a:gridCol w="792360"/>
                <a:gridCol w="1430280"/>
                <a:gridCol w="1174680"/>
                <a:gridCol w="1546200"/>
                <a:gridCol w="1548000"/>
              </a:tblGrid>
              <a:tr h="8161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ferenz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fic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ntegg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A =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23 : 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B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10 : 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 =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97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97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97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97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97ff"/>
                    </a:solidFill>
                  </a:tcPr>
                </a:tc>
              </a:tr>
              <a:tr h="81612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22 : 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 =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8 : 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Il metodo migliore e più rapido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2400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33cc"/>
                </a:solidFill>
                <a:latin typeface="Arial"/>
              </a:rPr>
              <a:t>Il punteggio tabellare</a:t>
            </a:r>
            <a:r>
              <a:rPr b="1" lang="it-IT" sz="4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secondo criteri basati sul principio on/off sulla base di formule indicate nella documentazione di gara” (in presenza di un determinato elemento è attribuito un punteggio predeterminato, senza alcuna valutazione discrezionale, in assenza è attribuito un punteggio pari a z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cc"/>
                </a:solidFill>
                <a:latin typeface="Arial"/>
              </a:rPr>
              <a:t>Criterio del quale non si parla nelle LG.2, lo troviamo nella LG.5, pag. 3, e nei Bandi Tip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Arial"/>
              </a:rPr>
              <a:t>Bando Tipo n.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cc"/>
                </a:solidFill>
                <a:latin typeface="Arial"/>
              </a:rPr>
              <a:t>per l’affidamento di servizi di </a:t>
            </a:r>
            <a:r>
              <a:rPr b="1" lang="it-IT" sz="3200" spc="-1" strike="noStrike">
                <a:solidFill>
                  <a:srgbClr val="0033cc"/>
                </a:solidFill>
                <a:latin typeface="Arial"/>
              </a:rPr>
              <a:t>ingegneria ed architettura,</a:t>
            </a:r>
            <a:r>
              <a:rPr b="1" lang="it-IT" sz="3200" spc="-1" strike="noStrike">
                <a:solidFill>
                  <a:srgbClr val="0033cc"/>
                </a:solidFill>
                <a:latin typeface="Arial"/>
              </a:rPr>
              <a:t> l’ANAC prevede anche “punteggi tabellari”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cc"/>
                </a:solidFill>
                <a:latin typeface="Arial"/>
              </a:rPr>
              <a:t>vale a dire i </a:t>
            </a:r>
            <a:r>
              <a:rPr b="1" lang="it-IT" sz="3200" spc="-1" strike="noStrike" u="sng">
                <a:solidFill>
                  <a:srgbClr val="0033cc"/>
                </a:solidFill>
                <a:uFillTx/>
                <a:latin typeface="Arial"/>
              </a:rPr>
              <a:t>punteggi fissi e predefiniti che saranno attribuiti o non attribuiti in ragione dell’offerta, o mancata offerta, di quanto specificamente richiesto</a:t>
            </a:r>
            <a:r>
              <a:rPr b="1" lang="it-IT" sz="3200" spc="-1" strike="noStrike">
                <a:solidFill>
                  <a:srgbClr val="0033cc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4f6228"/>
                </a:solidFill>
                <a:latin typeface="Arial"/>
              </a:rPr>
              <a:t>Esempio (CAM)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Arial"/>
              </a:rPr>
              <a:t>Dai CAM per la “ristorazione” (DM 25/7/11 par.5.3.3), punteggi tabellar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il concorrente, per la consegna dei pasti,  utilizza un veicolo a basso impatto ambientale (</a:t>
            </a:r>
            <a:r>
              <a:rPr b="0" lang="it-IT" sz="3200" spc="-1" strike="noStrike" u="sng">
                <a:solidFill>
                  <a:srgbClr val="002060"/>
                </a:solidFill>
                <a:uFillTx/>
                <a:latin typeface="Arial"/>
              </a:rPr>
              <a:t>minimo euro 4</a:t>
            </a: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Arial"/>
              </a:rPr>
              <a:t>gasolio/benzina euro 5 o superiore (punti 3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Arial"/>
              </a:rPr>
              <a:t>ibrido o alimentato a metano o gpl (punti 6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Arial"/>
              </a:rPr>
              <a:t>esclusivamente elettrico (punti 10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33cc"/>
                </a:solidFill>
                <a:latin typeface="Arial"/>
              </a:rPr>
              <a:t>Riparametrazion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 caso di </a:t>
            </a:r>
            <a:r>
              <a:rPr b="1" lang="it-IT" sz="3200" spc="-1" strike="noStrike">
                <a:solidFill>
                  <a:srgbClr val="0033cc"/>
                </a:solidFill>
                <a:latin typeface="Arial"/>
              </a:rPr>
              <a:t>attribuzione discrezionale di un coefficiente,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parte di ciascun commissario, il </a:t>
            </a:r>
            <a:r>
              <a:rPr b="1" lang="it-IT" sz="3200" spc="-1" strike="noStrike">
                <a:solidFill>
                  <a:srgbClr val="0033cc"/>
                </a:solidFill>
                <a:latin typeface="Arial"/>
              </a:rPr>
              <a:t>Bando Tipo n.1/2017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ttribuisce la facoltà di prevedere il ricalcolo del punteggio per assegnare il massi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cc"/>
                </a:solidFill>
                <a:latin typeface="Arial"/>
              </a:rPr>
              <a:t>IO SCONSIGLIO LA RIPARAMETRAZ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cc"/>
                </a:solidFill>
                <a:latin typeface="Arial"/>
              </a:rPr>
              <a:t>perché determina sempre l’anomalia dell’offerta vincente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Arial"/>
              </a:rPr>
              <a:t>Indirizzare i concorrenti (esempi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Arial"/>
              </a:rPr>
              <a:t>Criteri e sub-criteri di valut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spondenza dell’offerta ai contenuti, alle modalità di sviluppo ed articolazione della relazione tecnica richiesti al Paragrafo 16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PESO 5%;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ratteristiche metodologiche di svolgimento delle prestazioni richiest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odalità di erogazione del servizio, con particolare riferimento alle attrezzature impiegate ed alla capacità di queste di contenere i consumi energetici. PESO 20%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istemi di verifica della qualità erogata e percepita dall’utenza del servizio. PESO 20%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sonale impiegato nell’erogazione del servizio: numero delle persone destinate stabilmente al servizio, curriculum, titolo di studio, procedura di sostituzione in caso di assenza o impedimento di uno o più tra i dipendenti indicati. PESO 20%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imento dei tempi di avvio, esecuzione e conclusione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PESO 20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ssimo = 8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00000"/>
                </a:solidFill>
                <a:latin typeface="Arial"/>
              </a:rPr>
              <a:t>Indirizzare i concorrenti (esempi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Arial"/>
              </a:rPr>
              <a:t>Paragrafo … del Bando: Struttura della relazione te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pitolo 1 - Caratteristiche metodologiche di svolgimento delle prestazion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ragrafo 1.1: modalità di erogazione del servizio, con particolare riferimento alle attrezzature impiegate ed alla capacità di queste di contenere i consumi energetici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ragrafo 1.2: sistemi di verifica della qualità erogata e percepita dall’utenza del servizio;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ragrafo 1.3: personale impiegato nell’erogazione del servizio: numero delle persone destinate stabilmente al servizio, curriculum, titolo di studio, procedura di sostituzione in caso di assenza o impedimento di uno o più tra i dipendenti indicati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pitolo 2 - Contenimento dei tempi di avvio, esecuzione e conclusi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aragrafo 2.1: termine di avvio della prestazione e di conclusi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Grazie per l’attenzione e buon lavoro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400" y="23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200" spc="-1" strike="noStrike">
                <a:solidFill>
                  <a:srgbClr val="ff0000"/>
                </a:solidFill>
                <a:latin typeface="Arial"/>
              </a:rPr>
              <a:t>Lavor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4000" y="1341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Il riferimento rimane il “parere” </a:t>
            </a:r>
            <a:r>
              <a:rPr b="1" lang="it-IT" sz="4400" spc="-1" strike="noStrike" u="sng">
                <a:solidFill>
                  <a:srgbClr val="ff0000"/>
                </a:solidFill>
                <a:uFillTx/>
                <a:latin typeface="Arial"/>
              </a:rPr>
              <a:t>ANAC del 23/6/2017 n. 84346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secondo il qual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è possibile applicare il criterio del minor prezzo alle «procedure negoziate» ex art.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MIT: richiesta di parere all’ANAC del 13/6/2017 n. 2358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400" y="23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Art.148 comma 6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341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Arial"/>
              </a:rPr>
              <a:t>Lavori su immobili vincolati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il criterio del minor prezzo è applicabile per lavori di importo pari o inferiore 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500mila euro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Arial"/>
              </a:rPr>
              <a:t>Forniture e servizi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92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Arial"/>
              </a:rPr>
              <a:t>Si possono affidare con il criterio del minor prezzo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servizi e forniture, di qualsiasi tipo, fino a </a:t>
            </a:r>
            <a:r>
              <a:rPr b="1" lang="it-IT" sz="3100" spc="-1" strike="noStrike">
                <a:solidFill>
                  <a:srgbClr val="000000"/>
                </a:solidFill>
                <a:latin typeface="Arial"/>
              </a:rPr>
              <a:t>40m euro</a:t>
            </a: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oppure, con caratteristiche </a:t>
            </a:r>
            <a:r>
              <a:rPr b="1" lang="it-IT" sz="3100" spc="-1" strike="noStrike">
                <a:solidFill>
                  <a:srgbClr val="000000"/>
                </a:solidFill>
                <a:latin typeface="Arial"/>
              </a:rPr>
              <a:t>standardizzate</a:t>
            </a: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o le cui </a:t>
            </a:r>
            <a:r>
              <a:rPr b="1" lang="it-IT" sz="3100" spc="-1" strike="noStrike">
                <a:solidFill>
                  <a:srgbClr val="000000"/>
                </a:solidFill>
                <a:latin typeface="Arial"/>
              </a:rPr>
              <a:t>condizioni siano definite dal mercato</a:t>
            </a: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oppure, </a:t>
            </a:r>
            <a:r>
              <a:rPr b="1" lang="it-IT" sz="3100" spc="-1" strike="noStrike">
                <a:solidFill>
                  <a:srgbClr val="000000"/>
                </a:solidFill>
                <a:latin typeface="Arial"/>
              </a:rPr>
              <a:t>fino a soglia, se caratterizzati da elevata ripetitività </a:t>
            </a:r>
            <a:r>
              <a:rPr b="0" lang="it-IT" sz="3100" spc="-1" strike="noStrike">
                <a:solidFill>
                  <a:srgbClr val="000000"/>
                </a:solidFill>
                <a:latin typeface="Arial"/>
              </a:rPr>
              <a:t>(fatta eccezione per quelli di notevole contenuto tecnologico o che abbiano carattere innovativo)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600" spc="-1" strike="noStrike">
                <a:solidFill>
                  <a:srgbClr val="000000"/>
                </a:solidFill>
                <a:latin typeface="Arial"/>
              </a:rPr>
              <a:t>Minor prezz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Anche per affidare, </a:t>
            </a: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se di importo fino a 40m euro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servizi social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servizi di ristorazione assistenziale e scolastica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servizi ad alta intensità di manodopera (art. 50 co. 2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15:44:14Z</dcterms:created>
  <dc:creator>omar gozzoli</dc:creator>
  <dc:description/>
  <dc:language>en-US</dc:language>
  <cp:lastModifiedBy>Segretario Comunale - Comune di Roncadelle</cp:lastModifiedBy>
  <cp:lastPrinted>2014-01-28T11:27:24Z</cp:lastPrinted>
  <dcterms:modified xsi:type="dcterms:W3CDTF">2019-03-20T15:35:52Z</dcterms:modified>
  <cp:revision>1518</cp:revision>
  <dc:subject/>
  <dc:title>Ordinamento finanziario e contabile</dc:title>
</cp:coreProperties>
</file>